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12.png" ContentType="image/png"/>
  <Override PartName="/ppt/media/image16.png" ContentType="image/png"/>
  <Override PartName="/ppt/media/image15.wmf" ContentType="image/x-wmf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1"/>
          </p:nvPr>
        </p:nvSpPr>
        <p:spPr>
          <a:xfrm>
            <a:off x="388584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20680" y="693720"/>
            <a:ext cx="4616640" cy="346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66"/>
                </a:solidFill>
                <a:latin typeface="Verdana"/>
              </a:rPr>
              <a:t>Click to move the slide</a:t>
            </a: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2"/>
          </p:nvPr>
        </p:nvSpPr>
        <p:spPr>
          <a:xfrm>
            <a:off x="-360" y="877392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3"/>
          </p:nvPr>
        </p:nvSpPr>
        <p:spPr>
          <a:xfrm>
            <a:off x="3885840" y="877392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2324DA4-F899-46CB-A9DC-62D13209DB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224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12960" y="4387320"/>
            <a:ext cx="5032080" cy="415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optimal link rate – other rates could be supported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2068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12960" y="4387320"/>
            <a:ext cx="5032080" cy="415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7120" rIns="8712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um cost in the billions of $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498780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30400" y="5607360"/>
            <a:ext cx="498780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30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386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517000" y="514188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203600" y="514188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30400" y="560736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5517000" y="560736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203600" y="560736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830400" y="5141880"/>
            <a:ext cx="49878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498780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795840" y="2170080"/>
            <a:ext cx="5006880" cy="9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30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30400" y="5141880"/>
            <a:ext cx="49878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386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30400" y="5607360"/>
            <a:ext cx="498780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498780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830400" y="5607360"/>
            <a:ext cx="498780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830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386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517000" y="514188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203600" y="514188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830400" y="560736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5517000" y="560736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7203600" y="560736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498780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795840" y="2170080"/>
            <a:ext cx="5006880" cy="9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30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386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30400" y="5607360"/>
            <a:ext cx="498780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2320" y="1982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343080" indent="-343080">
              <a:spcBef>
                <a:spcPts val="499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2" marL="343080" indent="-343080">
              <a:spcBef>
                <a:spcPts val="499"/>
              </a:spcBef>
              <a:buClr>
                <a:srgbClr val="993366"/>
              </a:buClr>
              <a:buSzPct val="9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pic>
        <p:nvPicPr>
          <p:cNvPr id="1" name="big_logo" descr=""/>
          <p:cNvPicPr/>
          <p:nvPr/>
        </p:nvPicPr>
        <p:blipFill>
          <a:blip r:embed="rId2"/>
          <a:stretch/>
        </p:blipFill>
        <p:spPr>
          <a:xfrm>
            <a:off x="144360" y="103320"/>
            <a:ext cx="1819440" cy="16477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4589640" y="492120"/>
            <a:ext cx="4554360" cy="77148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052720" y="244440"/>
            <a:ext cx="0" cy="782640"/>
          </a:xfrm>
          <a:prstGeom prst="line">
            <a:avLst/>
          </a:prstGeom>
          <a:ln w="1908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048040" y="1027080"/>
            <a:ext cx="7095960" cy="65232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4008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338040"/>
                <a:tab algn="ctr" pos="4521240"/>
                <a:tab algn="r" pos="874728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ww.atheros.com</a:t>
            </a: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Atheros Communications, Inc. </a:t>
            </a: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	</a:t>
            </a:r>
            <a:fld id="{DA94C4D8-26E3-4A46-8D75-84EAE63FC639}" type="slidenum">
              <a:rPr b="0" lang="en-US" sz="10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608360" y="477720"/>
            <a:ext cx="4535640" cy="96228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big_logo" descr=""/>
          <p:cNvPicPr/>
          <p:nvPr/>
        </p:nvPicPr>
        <p:blipFill>
          <a:blip r:embed="rId2"/>
          <a:stretch/>
        </p:blipFill>
        <p:spPr>
          <a:xfrm>
            <a:off x="0" y="2101680"/>
            <a:ext cx="3516480" cy="31831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66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3726000" y="2192400"/>
            <a:ext cx="1440" cy="2595600"/>
          </a:xfrm>
          <a:prstGeom prst="line">
            <a:avLst/>
          </a:prstGeom>
          <a:ln w="1908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driving" descr=""/>
          <p:cNvPicPr/>
          <p:nvPr/>
        </p:nvPicPr>
        <p:blipFill>
          <a:blip r:embed="rId3"/>
          <a:stretch/>
        </p:blipFill>
        <p:spPr>
          <a:xfrm>
            <a:off x="2136600" y="817560"/>
            <a:ext cx="3246480" cy="363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 flipH="1">
            <a:off x="2007720" y="244440"/>
            <a:ext cx="1800" cy="1076400"/>
          </a:xfrm>
          <a:prstGeom prst="line">
            <a:avLst/>
          </a:prstGeom>
          <a:ln w="1908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05120" y="4768920"/>
            <a:ext cx="5438880" cy="315720"/>
          </a:xfrm>
          <a:prstGeom prst="rect">
            <a:avLst/>
          </a:pr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282680"/>
            <a:ext cx="9144000" cy="336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993366"/>
              </a:buClr>
              <a:buSzPct val="9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689280" y="2075040"/>
            <a:ext cx="545472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66"/>
                </a:solidFill>
                <a:latin typeface="Verdana"/>
              </a:rPr>
              <a:t>2</a:t>
            </a:r>
            <a:r>
              <a:rPr b="1" lang="en-US" sz="2400" spc="-1" strike="noStrike" baseline="30000">
                <a:solidFill>
                  <a:srgbClr val="993366"/>
                </a:solidFill>
                <a:latin typeface="Verdana"/>
              </a:rPr>
              <a:t>nd</a:t>
            </a:r>
            <a:r>
              <a:rPr b="1" lang="en-US" sz="2400" spc="-1" strike="noStrike">
                <a:solidFill>
                  <a:srgbClr val="993366"/>
                </a:solidFill>
                <a:latin typeface="Verdana"/>
              </a:rPr>
              <a:t> Generation</a:t>
            </a:r>
            <a:br>
              <a:rPr sz="2400"/>
            </a:br>
            <a:r>
              <a:rPr b="1" lang="en-US" sz="2400" spc="-1" strike="noStrike">
                <a:solidFill>
                  <a:srgbClr val="993366"/>
                </a:solidFill>
                <a:latin typeface="Verdana"/>
              </a:rPr>
              <a:t>Wireless LAN Opportunities</a:t>
            </a:r>
            <a:br>
              <a:rPr sz="2400"/>
            </a:br>
            <a:r>
              <a:rPr b="1" lang="en-US" sz="2400" spc="-1" strike="noStrike">
                <a:solidFill>
                  <a:srgbClr val="993366"/>
                </a:solidFill>
                <a:latin typeface="Verdana"/>
              </a:rPr>
              <a:t>and Mass Adoption Challenges</a:t>
            </a:r>
            <a:r>
              <a:rPr b="1" lang="en-US" sz="2800" spc="-1" strike="noStrike">
                <a:solidFill>
                  <a:srgbClr val="993366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3830400" y="5141880"/>
            <a:ext cx="49878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Atheros Communications, Inc. | www.atheros.com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56920" y="4764240"/>
            <a:ext cx="441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Feb 13, 2002 – Broadband Wireless World For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09880" y="3726000"/>
            <a:ext cx="4962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Sheung 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Product Line Mana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sheung@atheros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650960" y="103320"/>
            <a:ext cx="749304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ation Techniques: 802.11a, 802.11b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2870280" y="2009880"/>
            <a:ext cx="3203640" cy="45972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11g Draft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676600" y="5700600"/>
            <a:ext cx="3697200" cy="459720"/>
          </a:xfrm>
          <a:prstGeom prst="rect">
            <a:avLst/>
          </a:prstGeom>
          <a:solidFill>
            <a:srgbClr val="15bde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Mixed mode 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How the 11g Draft 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135320" y="3076560"/>
            <a:ext cx="838440" cy="45720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100000">
                <a:srgbClr val="00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932280" y="31701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126040" y="3076560"/>
            <a:ext cx="838080" cy="45720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100000">
                <a:srgbClr val="00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915080" y="3168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116760" y="3076560"/>
            <a:ext cx="838080" cy="45720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100000">
                <a:srgbClr val="00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923080" y="31561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07120" y="3076560"/>
            <a:ext cx="838440" cy="45720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100000">
                <a:srgbClr val="00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894720" y="31669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144960" y="3076560"/>
            <a:ext cx="838080" cy="45720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937240" y="31608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73160" y="3076560"/>
            <a:ext cx="838080" cy="45720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163520" y="3076560"/>
            <a:ext cx="838440" cy="45720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154240" y="3076560"/>
            <a:ext cx="838080" cy="45720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959040" y="3165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941840" y="3164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097840" y="3076560"/>
            <a:ext cx="838080" cy="45720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100000">
                <a:srgbClr val="00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I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890120" y="3176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rot="16200000">
            <a:off x="1836000" y="2364120"/>
            <a:ext cx="476280" cy="3002040"/>
          </a:xfrm>
          <a:custGeom>
            <a:avLst/>
            <a:gdLst>
              <a:gd name="textAreaLeft" fmla="*/ 304200 w 476280"/>
              <a:gd name="textAreaRight" fmla="*/ 476640 w 476280"/>
              <a:gd name="textAreaTop" fmla="*/ 78120 h 3002040"/>
              <a:gd name="textAreaBottom" fmla="*/ 2923920 h 3002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198080" y="4143240"/>
            <a:ext cx="194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1b compati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rot="16200000">
            <a:off x="6269040" y="1891800"/>
            <a:ext cx="476280" cy="3994200"/>
          </a:xfrm>
          <a:custGeom>
            <a:avLst/>
            <a:gdLst>
              <a:gd name="textAreaLeft" fmla="*/ 304200 w 476280"/>
              <a:gd name="textAreaRight" fmla="*/ 476640 w 476280"/>
              <a:gd name="textAreaTop" fmla="*/ 104040 h 3994200"/>
              <a:gd name="textAreaBottom" fmla="*/ 3890160 h 3994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808960" y="4167360"/>
            <a:ext cx="164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OFDM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1424160" y="5850000"/>
            <a:ext cx="694044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447920" y="5467320"/>
            <a:ext cx="689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442880" y="4006800"/>
            <a:ext cx="6910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477800" y="2765520"/>
            <a:ext cx="6924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upport More Users at 5 GHz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6630840" y="1905120"/>
            <a:ext cx="1417680" cy="428472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9 channe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013120" y="2114640"/>
            <a:ext cx="43718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021120" y="2152800"/>
            <a:ext cx="2489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492200" y="2509920"/>
            <a:ext cx="198288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1420560" y="6205680"/>
            <a:ext cx="693396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422360" y="2565360"/>
            <a:ext cx="0" cy="3643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78040" y="2114640"/>
            <a:ext cx="343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hroughput 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(Mbps/network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523880" y="6022800"/>
            <a:ext cx="1828800" cy="160560"/>
          </a:xfrm>
          <a:prstGeom prst="rect">
            <a:avLst/>
          </a:prstGeom>
          <a:solidFill>
            <a:srgbClr val="f92a2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728880" y="5888160"/>
            <a:ext cx="1411560" cy="303120"/>
          </a:xfrm>
          <a:prstGeom prst="rect">
            <a:avLst/>
          </a:prstGeom>
          <a:solidFill>
            <a:srgbClr val="ffe6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 channe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87320" y="5709960"/>
            <a:ext cx="55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937120" y="3459240"/>
            <a:ext cx="1416240" cy="272880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2 channe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85800" y="2601720"/>
            <a:ext cx="65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68160" y="5266800"/>
            <a:ext cx="63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62040" y="3852360"/>
            <a:ext cx="61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595840" y="5326200"/>
            <a:ext cx="1279800" cy="8636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 channe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709640" y="2943360"/>
            <a:ext cx="20574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828800" y="3565800"/>
            <a:ext cx="1835280" cy="307080"/>
          </a:xfrm>
          <a:prstGeom prst="rect">
            <a:avLst/>
          </a:prstGeom>
          <a:solidFill>
            <a:srgbClr val="ffe6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4 GHz 11g (draf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828800" y="3048120"/>
            <a:ext cx="1828800" cy="349200"/>
          </a:xfrm>
          <a:prstGeom prst="rect">
            <a:avLst/>
          </a:prstGeom>
          <a:solidFill>
            <a:srgbClr val="99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 GHz 11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828800" y="4062600"/>
            <a:ext cx="1809720" cy="307080"/>
          </a:xfrm>
          <a:prstGeom prst="rect">
            <a:avLst/>
          </a:prstGeom>
          <a:solidFill>
            <a:srgbClr val="f92a2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.4 GHz 11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783480" y="6326280"/>
            <a:ext cx="23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Source: Agere, Ather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406440" y="1854360"/>
            <a:ext cx="4254480" cy="458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o Interferers means Ease of Us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38120" y="1896840"/>
            <a:ext cx="494208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2.4 GHz band is congested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and interferers can affect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setup and operation of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networks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flicting wireless networ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xed wireless broadba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rdless pho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crowave ove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urity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m (Amateur) Radi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ss than 100 MHz available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1 to 3 usable channels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851360" y="1841400"/>
            <a:ext cx="4076640" cy="4584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896000" y="1884240"/>
            <a:ext cx="4248000" cy="39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5 GHz band is clean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spectrum operating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under rules preventing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narrowband interfer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 conflicting protocols allow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true QoS and new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t 15 UNII spectrum rule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vent cordless phones,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urity system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diolocation satellites and Radars remote or in other parts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b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ver 300 MHz availabl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4 to 19 usable channels)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yth of 2.4 GHz Range Advantag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3" name=""/>
          <p:cNvSpPr/>
          <p:nvPr/>
        </p:nvSpPr>
        <p:spPr>
          <a:xfrm>
            <a:off x="926280" y="2017800"/>
            <a:ext cx="189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Verdana"/>
              </a:rPr>
              <a:t>5 GHz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033960" y="2028960"/>
            <a:ext cx="241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Verdana"/>
              </a:rPr>
              <a:t>2.4 GHz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858840" y="220032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ath Lo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070080" y="2463840"/>
            <a:ext cx="53352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376960" y="2475000"/>
            <a:ext cx="47772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050360" y="251928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+6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actors in WLAN System Rang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926280" y="2017800"/>
            <a:ext cx="189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Verdana"/>
              </a:rPr>
              <a:t>5 GHz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033960" y="2028960"/>
            <a:ext cx="241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Verdana"/>
              </a:rPr>
              <a:t>2.4 GHz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858840" y="220032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ath Lo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070080" y="2463840"/>
            <a:ext cx="53352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376960" y="2475000"/>
            <a:ext cx="47772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050360" y="251928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+6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854520" y="3056040"/>
            <a:ext cx="1398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quival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nten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070080" y="3494160"/>
            <a:ext cx="53352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376960" y="3505320"/>
            <a:ext cx="47772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696120" y="3954600"/>
            <a:ext cx="74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+3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659840" y="3951360"/>
            <a:ext cx="74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+3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057200" y="4844880"/>
            <a:ext cx="886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5091120"/>
            <a:ext cx="53316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397480" y="5102280"/>
            <a:ext cx="47772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736080" y="5867280"/>
            <a:ext cx="154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x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x Sensi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095640" y="6113520"/>
            <a:ext cx="53352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402160" y="6124680"/>
            <a:ext cx="47808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727080" y="5345280"/>
            <a:ext cx="1505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elay Sp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oler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067200" y="5591160"/>
            <a:ext cx="53316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373720" y="5602320"/>
            <a:ext cx="47772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055960" y="1108080"/>
            <a:ext cx="7448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mparing 11a/b Measured Link Rate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0" y="198288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6633"/>
                </a:solidFill>
                <a:latin typeface="Verdana"/>
              </a:rPr>
              <a:t>Link rates of 802.11a are 2 to 5 times those of 802.11b </a:t>
            </a:r>
            <a:br>
              <a:rPr sz="1800"/>
            </a:br>
            <a:r>
              <a:rPr b="1" i="1" lang="en-US" sz="1800" spc="-1" strike="noStrike">
                <a:solidFill>
                  <a:srgbClr val="666633"/>
                </a:solidFill>
                <a:latin typeface="Verdana"/>
              </a:rPr>
              <a:t>at the same distance in actual tests</a:t>
            </a:r>
            <a:endParaRPr b="1" lang="en-US" sz="18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 rot="10800000">
            <a:off x="1019160" y="2838240"/>
            <a:ext cx="454680" cy="27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Link Rate (Mbp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135320" y="5999040"/>
            <a:ext cx="14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nge (f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11077" t="9388" r="4431" b="6776"/>
          <a:stretch/>
        </p:blipFill>
        <p:spPr>
          <a:xfrm>
            <a:off x="1536840" y="2722680"/>
            <a:ext cx="6665760" cy="335736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2"/>
          <a:srcRect l="11077" t="9388" r="4431" b="6776"/>
          <a:stretch/>
        </p:blipFill>
        <p:spPr>
          <a:xfrm>
            <a:off x="1536840" y="2722680"/>
            <a:ext cx="6665760" cy="335736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3"/>
          <a:srcRect l="11077" t="9388" r="4431" b="6776"/>
          <a:stretch/>
        </p:blipFill>
        <p:spPr>
          <a:xfrm>
            <a:off x="1536840" y="2730600"/>
            <a:ext cx="6665760" cy="3355920"/>
          </a:xfrm>
          <a:prstGeom prst="rect">
            <a:avLst/>
          </a:prstGeom>
          <a:ln w="0">
            <a:noFill/>
          </a:ln>
        </p:spPr>
      </p:pic>
      <p:grpSp>
        <p:nvGrpSpPr>
          <p:cNvPr id="547" name=""/>
          <p:cNvGrpSpPr/>
          <p:nvPr/>
        </p:nvGrpSpPr>
        <p:grpSpPr>
          <a:xfrm>
            <a:off x="2478240" y="3132000"/>
            <a:ext cx="5238720" cy="2430360"/>
            <a:chOff x="2478240" y="3132000"/>
            <a:chExt cx="5238720" cy="2430360"/>
          </a:xfrm>
        </p:grpSpPr>
        <p:sp>
          <p:nvSpPr>
            <p:cNvPr id="548" name=""/>
            <p:cNvSpPr/>
            <p:nvPr/>
          </p:nvSpPr>
          <p:spPr>
            <a:xfrm>
              <a:off x="2546640" y="3132000"/>
              <a:ext cx="0" cy="196164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478240" y="4255560"/>
              <a:ext cx="662040" cy="368280"/>
            </a:xfrm>
            <a:prstGeom prst="rect">
              <a:avLst/>
            </a:prstGeom>
            <a:solidFill>
              <a:srgbClr val="eaeaea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~5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383600" y="5325120"/>
              <a:ext cx="3240" cy="23724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997680" y="4834800"/>
              <a:ext cx="719280" cy="368280"/>
            </a:xfrm>
            <a:prstGeom prst="rect">
              <a:avLst/>
            </a:prstGeom>
            <a:solidFill>
              <a:srgbClr val="eaeaea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~3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ill MANY Wireless Challenges Ahead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82320" y="17604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Networking ++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urity (802.11i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ource management, Scheduling, QoS (802.11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aming, InterAccess Point Communications (802.11f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Radio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n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fficiency in the use of spectrum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range of “impairments” to be manag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aging interference (co-channel and adjacent channe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ulatory (international acceptance) (802.11h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Portability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ttery lif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ecurity in Wireless LAN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82320" y="1982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There are three layers to wireless security, each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relies on and complements the others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2351160" y="3048120"/>
            <a:ext cx="564660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44640" y="3189240"/>
            <a:ext cx="118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VPN, D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357280" y="4098960"/>
            <a:ext cx="564696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736880" y="4240080"/>
            <a:ext cx="8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802.1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336760" y="5164200"/>
            <a:ext cx="564660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327560" y="530532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WEP, TKIP, A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21640" y="310824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89160" y="4175280"/>
            <a:ext cx="159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94920" y="5284800"/>
            <a:ext cx="171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k Encry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095800" y="3716280"/>
            <a:ext cx="0" cy="3636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091120" y="4768920"/>
            <a:ext cx="0" cy="3636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pplication Security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82680" y="1982880"/>
            <a:ext cx="858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VPN’s provide end-to-end application security but creating a secure “tunnel” from the client to the server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2351160" y="3048120"/>
            <a:ext cx="564660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657240" y="3189240"/>
            <a:ext cx="320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VPN (Virtual Private Networ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21640" y="310824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863640" y="4079880"/>
            <a:ext cx="6705720" cy="19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Advantag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est level of security from one end to the 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Disadvantag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complex and requires most effort to man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ffects performance, so hard to scale to large deploy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uthenticatio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82680" y="1982880"/>
            <a:ext cx="858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802.1x verifies that clients have the credentials to be on the network and increases the security of a data link  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575" name=""/>
          <p:cNvSpPr/>
          <p:nvPr/>
        </p:nvSpPr>
        <p:spPr>
          <a:xfrm>
            <a:off x="2351160" y="3048120"/>
            <a:ext cx="564660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816080" y="3189240"/>
            <a:ext cx="8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802.1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22360" y="3108240"/>
            <a:ext cx="159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863640" y="4079880"/>
            <a:ext cx="7532640" cy="22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Advantag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kes networks easier to manage by using extensible authentication methods to regulate access to a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s the security of a data link by refreshing WLAN encryption ke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Disadvantag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akened by poor data link level encry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ireless Data Delivery Alternative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2320" y="1982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WAN, 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5G, 3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2.4 GHz Un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2.11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me R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uetoo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5.0 GHz Un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2.11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perLAN2, HiSWAN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Proprietary, Non-Standard, Un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W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ink Encryptio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82680" y="1982880"/>
            <a:ext cx="858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Encryption keeps intruders from eavesdropping on a link, but are dependent on a secure key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2351160" y="3048120"/>
            <a:ext cx="121896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692080" y="3189240"/>
            <a:ext cx="61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W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20560" y="3108240"/>
            <a:ext cx="1238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cry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863640" y="4079880"/>
            <a:ext cx="782316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WEP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original Wired Equivalent Privacy protocol can be cracked by collecting and analyzing a sufficient amount of data – it needs either a VPN or 802.1x rekeying to be made sec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TKIP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mporal Key Initialization Protocol is a modification of WEP to defend against known at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AES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Advanced Encryption System is the one designated by the US Govt to replace the 3DES system commonly used in financial and other secure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408560" y="3041640"/>
            <a:ext cx="121896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715640" y="3182760"/>
            <a:ext cx="63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TK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483240" y="3048120"/>
            <a:ext cx="121932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822720" y="3189240"/>
            <a:ext cx="54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A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656160" y="3352680"/>
            <a:ext cx="71748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727600" y="3359160"/>
            <a:ext cx="71748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960640" y="3832200"/>
            <a:ext cx="4049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390560" y="3840120"/>
            <a:ext cx="134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ore Sec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95120" y="1150920"/>
            <a:ext cx="70801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ern 802.11a Products are Highly Integrated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1676520" y="2549520"/>
            <a:ext cx="6403680" cy="303696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/>
          <p:nvPr/>
        </p:nvSpPr>
        <p:spPr>
          <a:xfrm>
            <a:off x="76320" y="4699080"/>
            <a:ext cx="14475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Digital Chip:  MAC, Baseb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Processor, ADCs, DAC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Memor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1447920" y="4606560"/>
            <a:ext cx="1447560" cy="76212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666880" y="3997440"/>
            <a:ext cx="914400" cy="8380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257800" y="5753160"/>
            <a:ext cx="3492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RF Chip:  Power amp, LNA, VCO, SAW filtration, Frequency conversion, Frequency synthesizers, Variable gain am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800600" y="4454640"/>
            <a:ext cx="1371600" cy="137160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19320" y="2525760"/>
            <a:ext cx="1015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Reg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590920" y="2778120"/>
            <a:ext cx="15541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3048120" y="3463920"/>
            <a:ext cx="304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048120" y="3463920"/>
            <a:ext cx="0" cy="304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590920" y="3768840"/>
            <a:ext cx="4572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2590920" y="2778120"/>
            <a:ext cx="0" cy="990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523880" y="2778120"/>
            <a:ext cx="1219320" cy="53352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048120" y="3463920"/>
            <a:ext cx="457200" cy="3808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24560" y="3692520"/>
            <a:ext cx="96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EEP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1066680" y="3768480"/>
            <a:ext cx="2210040" cy="15228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4143240" y="2771640"/>
            <a:ext cx="0" cy="990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H="1">
            <a:off x="3525480" y="3762360"/>
            <a:ext cx="6238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448160" y="4016520"/>
            <a:ext cx="609480" cy="6094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486400" y="3387600"/>
            <a:ext cx="380880" cy="3812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607800" y="1795320"/>
            <a:ext cx="88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RF 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5715000" y="2091960"/>
            <a:ext cx="990720" cy="152388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492800" y="4762440"/>
            <a:ext cx="498240" cy="3110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623400" y="5673600"/>
            <a:ext cx="13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32MHz Crys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>
            <a:off x="4495320" y="4987800"/>
            <a:ext cx="228600" cy="68580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/>
          </p:nvPr>
        </p:nvSpPr>
        <p:spPr>
          <a:xfrm>
            <a:off x="685440" y="2004480"/>
            <a:ext cx="8263080" cy="42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6633"/>
                </a:solidFill>
                <a:latin typeface="Verdana"/>
              </a:rPr>
              <a:t>Closing the gap with wired</a:t>
            </a:r>
            <a:endParaRPr b="1" lang="en-US" sz="2200" spc="-1" strike="noStrike">
              <a:solidFill>
                <a:srgbClr val="666633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ireless PCMCIA connections relative to wired (wired =1)</a:t>
            </a:r>
            <a:endParaRPr b="1" lang="en-US" sz="18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620" name=""/>
          <p:cNvSpPr/>
          <p:nvPr/>
        </p:nvSpPr>
        <p:spPr>
          <a:xfrm>
            <a:off x="1486080" y="3097080"/>
            <a:ext cx="517032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486080" y="5168880"/>
            <a:ext cx="5170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486080" y="4653000"/>
            <a:ext cx="5170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486080" y="4129200"/>
            <a:ext cx="5170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486080" y="3613320"/>
            <a:ext cx="5170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486080" y="3097080"/>
            <a:ext cx="5170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486080" y="3097080"/>
            <a:ext cx="5170320" cy="258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486080" y="3097080"/>
            <a:ext cx="1440" cy="258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409760" y="568476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409760" y="516888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409760" y="465300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486080" y="5684760"/>
            <a:ext cx="5170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V="1">
            <a:off x="1486080" y="5684400"/>
            <a:ext cx="144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V="1">
            <a:off x="2781360" y="5684400"/>
            <a:ext cx="144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4076640" y="5684400"/>
            <a:ext cx="180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5361120" y="5684400"/>
            <a:ext cx="144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6656400" y="5684400"/>
            <a:ext cx="144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486080" y="3359160"/>
            <a:ext cx="1295280" cy="46044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781360" y="3819600"/>
            <a:ext cx="1295280" cy="41256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076640" y="4232160"/>
            <a:ext cx="1284480" cy="21456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361120" y="4446720"/>
            <a:ext cx="1295280" cy="10296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486080" y="5581800"/>
            <a:ext cx="1295280" cy="14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781360" y="5581800"/>
            <a:ext cx="1295280" cy="61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4106880" y="5144760"/>
            <a:ext cx="1284120" cy="4446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5361120" y="4652640"/>
            <a:ext cx="1295280" cy="4762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457280" y="3335400"/>
            <a:ext cx="57240" cy="47520"/>
          </a:xfrm>
          <a:custGeom>
            <a:avLst/>
            <a:gdLst/>
            <a:ahLst/>
            <a:rect l="l" t="t" r="r" b="b"/>
            <a:pathLst>
              <a:path w="36" h="30">
                <a:moveTo>
                  <a:pt x="18" y="0"/>
                </a:moveTo>
                <a:lnTo>
                  <a:pt x="36" y="15"/>
                </a:lnTo>
                <a:lnTo>
                  <a:pt x="18" y="30"/>
                </a:lnTo>
                <a:lnTo>
                  <a:pt x="0" y="15"/>
                </a:lnTo>
                <a:lnTo>
                  <a:pt x="18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752560" y="3795840"/>
            <a:ext cx="57240" cy="47520"/>
          </a:xfrm>
          <a:custGeom>
            <a:avLst/>
            <a:gdLst/>
            <a:ahLst/>
            <a:rect l="l" t="t" r="r" b="b"/>
            <a:pathLst>
              <a:path w="36" h="30">
                <a:moveTo>
                  <a:pt x="18" y="0"/>
                </a:moveTo>
                <a:lnTo>
                  <a:pt x="36" y="15"/>
                </a:lnTo>
                <a:lnTo>
                  <a:pt x="18" y="30"/>
                </a:lnTo>
                <a:lnTo>
                  <a:pt x="0" y="15"/>
                </a:lnTo>
                <a:lnTo>
                  <a:pt x="18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048200" y="4208400"/>
            <a:ext cx="57240" cy="47520"/>
          </a:xfrm>
          <a:custGeom>
            <a:avLst/>
            <a:gdLst/>
            <a:ahLst/>
            <a:rect l="l" t="t" r="r" b="b"/>
            <a:pathLst>
              <a:path w="36" h="30">
                <a:moveTo>
                  <a:pt x="18" y="0"/>
                </a:moveTo>
                <a:lnTo>
                  <a:pt x="36" y="15"/>
                </a:lnTo>
                <a:lnTo>
                  <a:pt x="18" y="30"/>
                </a:lnTo>
                <a:lnTo>
                  <a:pt x="0" y="15"/>
                </a:lnTo>
                <a:lnTo>
                  <a:pt x="18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332320" y="4422600"/>
            <a:ext cx="57240" cy="47880"/>
          </a:xfrm>
          <a:custGeom>
            <a:avLst/>
            <a:gdLst/>
            <a:ahLst/>
            <a:rect l="l" t="t" r="r" b="b"/>
            <a:pathLst>
              <a:path w="36" h="30">
                <a:moveTo>
                  <a:pt x="18" y="0"/>
                </a:moveTo>
                <a:lnTo>
                  <a:pt x="36" y="15"/>
                </a:lnTo>
                <a:lnTo>
                  <a:pt x="18" y="30"/>
                </a:lnTo>
                <a:lnTo>
                  <a:pt x="0" y="15"/>
                </a:lnTo>
                <a:lnTo>
                  <a:pt x="18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627960" y="4511520"/>
            <a:ext cx="42840" cy="61920"/>
          </a:xfrm>
          <a:custGeom>
            <a:avLst/>
            <a:gdLst/>
            <a:ahLst/>
            <a:rect l="l" t="t" r="r" b="b"/>
            <a:pathLst>
              <a:path w="36" h="30">
                <a:moveTo>
                  <a:pt x="18" y="0"/>
                </a:moveTo>
                <a:lnTo>
                  <a:pt x="36" y="15"/>
                </a:lnTo>
                <a:lnTo>
                  <a:pt x="18" y="30"/>
                </a:lnTo>
                <a:lnTo>
                  <a:pt x="0" y="15"/>
                </a:lnTo>
                <a:lnTo>
                  <a:pt x="18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457280" y="5557680"/>
            <a:ext cx="47520" cy="3996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752560" y="5557680"/>
            <a:ext cx="47880" cy="3996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048200" y="5549760"/>
            <a:ext cx="47520" cy="3996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332320" y="5105520"/>
            <a:ext cx="47880" cy="396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627960" y="4629240"/>
            <a:ext cx="47520" cy="396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187640" y="556560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962640" y="5049720"/>
            <a:ext cx="275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0.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187640" y="453384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962640" y="4010040"/>
            <a:ext cx="275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1.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187640" y="349416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962640" y="2978280"/>
            <a:ext cx="275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2.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266120" y="5851440"/>
            <a:ext cx="43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199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561400" y="5851440"/>
            <a:ext cx="43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1997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857040" y="5851440"/>
            <a:ext cx="43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1999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141160" y="5851440"/>
            <a:ext cx="43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200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436440" y="5851440"/>
            <a:ext cx="43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200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132680" y="4129200"/>
            <a:ext cx="1228680" cy="52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209000" y="4280040"/>
            <a:ext cx="257040" cy="144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304040" y="4255920"/>
            <a:ext cx="57240" cy="47880"/>
          </a:xfrm>
          <a:custGeom>
            <a:avLst/>
            <a:gdLst/>
            <a:ahLst/>
            <a:rect l="l" t="t" r="r" b="b"/>
            <a:pathLst>
              <a:path w="36" h="30">
                <a:moveTo>
                  <a:pt x="18" y="0"/>
                </a:moveTo>
                <a:lnTo>
                  <a:pt x="36" y="15"/>
                </a:lnTo>
                <a:lnTo>
                  <a:pt x="18" y="30"/>
                </a:lnTo>
                <a:lnTo>
                  <a:pt x="0" y="15"/>
                </a:lnTo>
                <a:lnTo>
                  <a:pt x="18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600320" y="4152960"/>
            <a:ext cx="41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209000" y="4541760"/>
            <a:ext cx="257040" cy="18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304040" y="4518000"/>
            <a:ext cx="47520" cy="396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7617960" y="4414680"/>
            <a:ext cx="572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Spe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obility without Cos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4" name=""/>
          <p:cNvSpPr/>
          <p:nvPr/>
        </p:nvSpPr>
        <p:spPr>
          <a:xfrm>
            <a:off x="1403280" y="412272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401840" y="3618000"/>
            <a:ext cx="75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415880" y="309240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ome Conclusions …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382320" y="1982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Unlicensed spectra and CMOS technology will combine to allow ubiquitous, low-cost, IP based wireless access (WLAN)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802.11, and 802.11a in particular, will dominate this WLAN landscape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WLANs are exciting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obal and exponentially grow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ical innovation is rapid, continuing (hard problems to solv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cietal impacts have but begun to be seen (rapid chang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679" name=""/>
          <p:cNvSpPr/>
          <p:nvPr/>
        </p:nvSpPr>
        <p:spPr>
          <a:xfrm>
            <a:off x="1703520" y="12600"/>
            <a:ext cx="4800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Future: Conclu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4016160" y="4764240"/>
            <a:ext cx="126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July 25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44800" y="2195280"/>
            <a:ext cx="4959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subTitle"/>
          </p:nvPr>
        </p:nvSpPr>
        <p:spPr>
          <a:xfrm>
            <a:off x="3830400" y="5141880"/>
            <a:ext cx="49878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-1523880" y="-422280"/>
            <a:ext cx="11741040" cy="820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0" y="449280"/>
            <a:ext cx="9144000" cy="96192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0" y="1254240"/>
            <a:ext cx="9144000" cy="336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983120" y="3944880"/>
            <a:ext cx="4160880" cy="57240"/>
          </a:xfrm>
          <a:prstGeom prst="rect">
            <a:avLst/>
          </a:pr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0" y="6640560"/>
            <a:ext cx="9144000" cy="21744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8" name="big_logo" descr=""/>
          <p:cNvPicPr/>
          <p:nvPr/>
        </p:nvPicPr>
        <p:blipFill>
          <a:blip r:embed="rId1"/>
          <a:stretch/>
        </p:blipFill>
        <p:spPr>
          <a:xfrm>
            <a:off x="0" y="2101680"/>
            <a:ext cx="3516480" cy="3183120"/>
          </a:xfrm>
          <a:prstGeom prst="rect">
            <a:avLst/>
          </a:prstGeom>
          <a:ln w="0">
            <a:noFill/>
          </a:ln>
        </p:spPr>
      </p:pic>
      <p:pic>
        <p:nvPicPr>
          <p:cNvPr id="689" name="driving" descr=""/>
          <p:cNvPicPr/>
          <p:nvPr/>
        </p:nvPicPr>
        <p:blipFill>
          <a:blip r:embed="rId2"/>
          <a:stretch/>
        </p:blipFill>
        <p:spPr>
          <a:xfrm>
            <a:off x="3336840" y="3425760"/>
            <a:ext cx="5545080" cy="62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ireless Data Delivery Alternative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2320" y="1982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WAN, 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5G, 3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2.4 GHz Un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2.11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me R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uetoo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5.0 GHz Un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2.11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perLAN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Proprietary, Non-Standard, Un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W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2197080" y="3241800"/>
            <a:ext cx="3719520" cy="99828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172960" y="4597560"/>
            <a:ext cx="377676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63040" y="405936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i-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550480" y="3645000"/>
            <a:ext cx="9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Aka . .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86440" y="4389480"/>
            <a:ext cx="87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i-Fi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7600" y="28080"/>
            <a:ext cx="7466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edictions, Myths, and Assertions I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69360" y="2009880"/>
            <a:ext cx="8248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802.11 is the clear winner (Wireless Ethernet)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reless Ethernet is familiar, IP based, immediately usefu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dely supported, deployed on access points and st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ailable for computing, consumer electronics, telematics app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HiperLAN2, HiSWANa will not be volume markets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nging to existence with QoS and DFS/TP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ex ($, wireless ATM), late, centralized contr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jor European, Japan manufacturers now 802.11 suppor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HomeRF is overshadowe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meRF 2.0 is too little, too l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l has dropped supp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Bluetooth is for personal area networks 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ndwidth, efficiency, system capacity limi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96960" y="113364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nlicensed Winner: 802.11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77600" y="28080"/>
            <a:ext cx="7466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edictions, Myths, and Assertions I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2454480" y="1133640"/>
            <a:ext cx="34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802.11 is Everywher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MoxiProductFamily2" descr=""/>
          <p:cNvPicPr/>
          <p:nvPr/>
        </p:nvPicPr>
        <p:blipFill>
          <a:blip r:embed="rId1"/>
          <a:stretch/>
        </p:blipFill>
        <p:spPr>
          <a:xfrm>
            <a:off x="3684600" y="3032280"/>
            <a:ext cx="2390760" cy="18097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575160" y="1728720"/>
            <a:ext cx="2079360" cy="1535040"/>
          </a:xfrm>
          <a:prstGeom prst="rect">
            <a:avLst/>
          </a:prstGeom>
          <a:ln w="0">
            <a:noFill/>
          </a:ln>
        </p:spPr>
      </p:pic>
      <p:pic>
        <p:nvPicPr>
          <p:cNvPr id="115" name="Proxim_ap_pccard" descr=""/>
          <p:cNvPicPr/>
          <p:nvPr/>
        </p:nvPicPr>
        <p:blipFill>
          <a:blip r:embed="rId3"/>
          <a:stretch/>
        </p:blipFill>
        <p:spPr>
          <a:xfrm>
            <a:off x="1389240" y="2935440"/>
            <a:ext cx="1774800" cy="1627200"/>
          </a:xfrm>
          <a:prstGeom prst="rect">
            <a:avLst/>
          </a:prstGeom>
          <a:ln w="0">
            <a:noFill/>
          </a:ln>
        </p:spPr>
      </p:pic>
      <p:pic>
        <p:nvPicPr>
          <p:cNvPr id="116" name="IBM_ThinkPad@ThinkPad_T_Series" descr=""/>
          <p:cNvPicPr/>
          <p:nvPr/>
        </p:nvPicPr>
        <p:blipFill>
          <a:blip r:embed="rId4"/>
          <a:stretch/>
        </p:blipFill>
        <p:spPr>
          <a:xfrm>
            <a:off x="372960" y="172872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Intel_AP_w_cards2" descr=""/>
          <p:cNvPicPr/>
          <p:nvPr/>
        </p:nvPicPr>
        <p:blipFill>
          <a:blip r:embed="rId5"/>
          <a:stretch/>
        </p:blipFill>
        <p:spPr>
          <a:xfrm>
            <a:off x="760320" y="4292640"/>
            <a:ext cx="1455840" cy="12906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309840" y="5676840"/>
            <a:ext cx="2482920" cy="6426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Consumer</a:t>
            </a:r>
            <a:br>
              <a:rPr sz="1800"/>
            </a:b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Electron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97480" y="5676840"/>
            <a:ext cx="2482920" cy="6426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Vehicular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9040" y="5676840"/>
            <a:ext cx="2386080" cy="6426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Computing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021200" y="4299120"/>
          <a:ext cx="1514520" cy="1323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021200" y="4299120"/>
                    <a:ext cx="151452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3" name="ov_mn_sm_photo" descr=""/>
          <p:cNvPicPr/>
          <p:nvPr/>
        </p:nvPicPr>
        <p:blipFill>
          <a:blip r:embed="rId8"/>
          <a:stretch/>
        </p:blipFill>
        <p:spPr>
          <a:xfrm>
            <a:off x="6491160" y="3876840"/>
            <a:ext cx="2222640" cy="1304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4" name=""/>
          <p:cNvGraphicFramePr/>
          <p:nvPr/>
        </p:nvGraphicFramePr>
        <p:xfrm>
          <a:off x="6451560" y="2286000"/>
          <a:ext cx="2162160" cy="1065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51560" y="2286000"/>
                    <a:ext cx="2162160" cy="10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70214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LAN Data Attractivenes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82680" y="1982880"/>
          <a:ext cx="8485200" cy="4236840"/>
        </p:xfrm>
        <a:graphic>
          <a:graphicData uri="http://schemas.openxmlformats.org/drawingml/2006/table">
            <a:tbl>
              <a:tblPr/>
              <a:tblGrid>
                <a:gridCol w="2828880"/>
                <a:gridCol w="3021120"/>
                <a:gridCol w="2635200"/>
              </a:tblGrid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L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684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00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ailable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ectr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3.5 MHz+ (US)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licen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 MHz (US)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cen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00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a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 Mbps per link max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MHz channels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Mbps per link max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MHz chann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00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wer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um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9 Gb/Wh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4Mbps @ 1.4W pea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6 Gb/Wh (2G)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4Kbps @ 1.3W pea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00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station ~$150 &amp; dropp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it more costly …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00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laptops, PDAs, home, enterprise, public ac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loyment just begin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he Future is in 5 GHz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649440" y="2492280"/>
            <a:ext cx="7897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71520" y="24004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19160" y="24004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19160" y="24004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67160" y="24004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224160" y="2406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65680" y="241452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11520" y="2406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11520" y="239220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59520" y="239220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160960" y="239220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08600" y="239220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08600" y="2432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54800" y="241920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54800" y="240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102440" y="240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104240" y="240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751880" y="240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03400" y="21160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79440" y="1733400"/>
            <a:ext cx="177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66"/>
                </a:solidFill>
                <a:latin typeface="Verdana"/>
              </a:rPr>
              <a:t>2 GHz Spect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78040" y="20988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400480" y="20970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36960" y="20923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79920" y="20890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16400" y="20844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970520" y="20797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92960" y="20908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280200" y="20858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23160" y="20829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559640" y="20779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73600" y="2351160"/>
            <a:ext cx="503280" cy="333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42960" y="3610080"/>
            <a:ext cx="7897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65400" y="351792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13040" y="351792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13040" y="351792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60680" y="351792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18040" y="35244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59200" y="3537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57760" y="35244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05400" y="35244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05400" y="3510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53040" y="3510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154480" y="3510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802480" y="3510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802480" y="3549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800680" y="3537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448320" y="3537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48320" y="3522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095960" y="3522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97760" y="3522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745400" y="3522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096920" y="32338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4960" y="2851200"/>
            <a:ext cx="251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66"/>
                </a:solidFill>
                <a:latin typeface="Verdana"/>
              </a:rPr>
              <a:t>5 GHz Spectrum in U.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771920" y="32162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94000" y="32148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30480" y="32097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673440" y="32068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310280" y="32018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964040" y="31971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586480" y="32083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274080" y="32036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916680" y="32004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553520" y="31957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54240" y="3478320"/>
            <a:ext cx="1417680" cy="333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904000" y="3478320"/>
            <a:ext cx="874800" cy="333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784920" y="3478320"/>
            <a:ext cx="519120" cy="333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68160" y="4714920"/>
            <a:ext cx="78980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90600" y="46227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38240" y="46227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938240" y="46227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585880" y="46227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43240" y="46292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84760" y="4641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82960" y="46292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30600" y="46292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30600" y="4614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78600" y="4614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180040" y="4614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827680" y="4614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27680" y="465444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826240" y="4641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73880" y="4641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73880" y="462744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121520" y="462744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122960" y="462744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770960" y="462744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122480" y="43387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70160" y="3956040"/>
            <a:ext cx="279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66"/>
                </a:solidFill>
                <a:latin typeface="Verdana"/>
              </a:rPr>
              <a:t>5 GHz Spectrum in 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797120" y="43210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419560" y="43196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056040" y="43149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699000" y="43117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335480" y="43070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989600" y="43020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612040" y="43131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299280" y="43084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942240" y="43052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578720" y="43005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179800" y="4583160"/>
            <a:ext cx="1417320" cy="3333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329000" y="4583160"/>
            <a:ext cx="1596960" cy="3333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55560" y="5718240"/>
            <a:ext cx="78980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278000" y="56260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25640" y="56260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25640" y="56260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573280" y="56260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30640" y="56325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71800" y="564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70360" y="56325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18000" y="56325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18000" y="5618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65640" y="5618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67440" y="5618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815080" y="5618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815080" y="56577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813280" y="564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461280" y="564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61280" y="563076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108920" y="563076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110360" y="563076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758000" y="563076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109880" y="53420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2960" y="4959360"/>
            <a:ext cx="26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66"/>
                </a:solidFill>
                <a:latin typeface="Verdana"/>
              </a:rPr>
              <a:t>5 GHz Spectrum in Jap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784520" y="53244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406600" y="53229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43440" y="53182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686400" y="53150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322880" y="53103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977000" y="53053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99080" y="53164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286680" y="53118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929640" y="53085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66120" y="53038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166840" y="5586480"/>
            <a:ext cx="757440" cy="3333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066080" y="3865680"/>
            <a:ext cx="361800" cy="221292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05520" y="6033960"/>
            <a:ext cx="3138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New Allocation f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Vehicular (Telematics) Applica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mparing 1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</a:rPr>
              <a:t>st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and 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</a:rPr>
              <a:t>nd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Gen WLA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1157400" y="2122560"/>
          <a:ext cx="6986520" cy="3798720"/>
        </p:xfrm>
        <a:graphic>
          <a:graphicData uri="http://schemas.openxmlformats.org/drawingml/2006/table">
            <a:tbl>
              <a:tblPr/>
              <a:tblGrid>
                <a:gridCol w="2144520"/>
                <a:gridCol w="2422440"/>
                <a:gridCol w="2419560"/>
              </a:tblGrid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2.11b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-Fi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2.11a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-Fi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a Rate per Channe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– 11Mbp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– 54Mbp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equency of Operation (U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0-2.4835GHz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5-5.35GHz, 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725-5.825GHz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ailable Bandwidth (U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.5MHz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+MHz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ber of Non-Overlapping Channels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ulation Typ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SS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D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50960" y="103320"/>
            <a:ext cx="749304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ation Techniques: 802.11a, 802.11b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1234440" y="3529080"/>
            <a:ext cx="195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1.00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 / 0.72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1600" y="2319480"/>
            <a:ext cx="32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SSS / CCK (1-8 bits/seq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482840" y="1731960"/>
            <a:ext cx="1384200" cy="45972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802.11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343920" y="3533760"/>
            <a:ext cx="10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20 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319000" y="2293920"/>
            <a:ext cx="299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OFDM (52 sub-carri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870440" y="2590920"/>
            <a:ext cx="3852720" cy="1471680"/>
            <a:chOff x="4870440" y="2590920"/>
            <a:chExt cx="3852720" cy="1471680"/>
          </a:xfrm>
        </p:grpSpPr>
        <p:sp>
          <p:nvSpPr>
            <p:cNvPr id="273" name=""/>
            <p:cNvSpPr/>
            <p:nvPr/>
          </p:nvSpPr>
          <p:spPr>
            <a:xfrm>
              <a:off x="4870440" y="3389040"/>
              <a:ext cx="385272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42196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5419800" y="2714400"/>
              <a:ext cx="3168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7856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5576760" y="2714400"/>
              <a:ext cx="3168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73624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573552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89284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589284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05052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604980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20712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620712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36480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636408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52140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652140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67872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667836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83640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683568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85808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785808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211880" y="2590920"/>
              <a:ext cx="4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27400" y="3135240"/>
              <a:ext cx="0" cy="42192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027400" y="3473280"/>
              <a:ext cx="353880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566200" y="3135240"/>
              <a:ext cx="0" cy="42192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70148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770076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6135840" y="1700280"/>
            <a:ext cx="1384200" cy="45972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802.11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4624920" y="4114800"/>
            <a:ext cx="4345560" cy="1305360"/>
            <a:chOff x="4624920" y="4114800"/>
            <a:chExt cx="4345560" cy="1305360"/>
          </a:xfrm>
        </p:grpSpPr>
        <p:grpSp>
          <p:nvGrpSpPr>
            <p:cNvPr id="304" name=""/>
            <p:cNvGrpSpPr/>
            <p:nvPr/>
          </p:nvGrpSpPr>
          <p:grpSpPr>
            <a:xfrm>
              <a:off x="4624920" y="4114800"/>
              <a:ext cx="915120" cy="1305360"/>
              <a:chOff x="4624920" y="4114800"/>
              <a:chExt cx="915120" cy="1305360"/>
            </a:xfrm>
          </p:grpSpPr>
          <p:grpSp>
            <p:nvGrpSpPr>
              <p:cNvPr id="305" name=""/>
              <p:cNvGrpSpPr/>
              <p:nvPr/>
            </p:nvGrpSpPr>
            <p:grpSpPr>
              <a:xfrm>
                <a:off x="4632120" y="4114800"/>
                <a:ext cx="907920" cy="915480"/>
                <a:chOff x="4632120" y="4114800"/>
                <a:chExt cx="907920" cy="915480"/>
              </a:xfrm>
            </p:grpSpPr>
            <p:grpSp>
              <p:nvGrpSpPr>
                <p:cNvPr id="306" name=""/>
                <p:cNvGrpSpPr/>
                <p:nvPr/>
              </p:nvGrpSpPr>
              <p:grpSpPr>
                <a:xfrm>
                  <a:off x="4632120" y="4114800"/>
                  <a:ext cx="907920" cy="915480"/>
                  <a:chOff x="4632120" y="4114800"/>
                  <a:chExt cx="907920" cy="915480"/>
                </a:xfrm>
              </p:grpSpPr>
              <p:sp>
                <p:nvSpPr>
                  <p:cNvPr id="307" name=""/>
                  <p:cNvSpPr/>
                  <p:nvPr/>
                </p:nvSpPr>
                <p:spPr>
                  <a:xfrm flipV="1">
                    <a:off x="4632120" y="4570920"/>
                    <a:ext cx="907920" cy="144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5086080" y="4114800"/>
                    <a:ext cx="0" cy="91548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9" name=""/>
                <p:cNvGrpSpPr/>
                <p:nvPr/>
              </p:nvGrpSpPr>
              <p:grpSpPr>
                <a:xfrm>
                  <a:off x="4717800" y="4502160"/>
                  <a:ext cx="736560" cy="141120"/>
                  <a:chOff x="4717800" y="4502160"/>
                  <a:chExt cx="736560" cy="141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4717800" y="4502160"/>
                    <a:ext cx="13968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5314680" y="4502160"/>
                    <a:ext cx="13968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12" name=""/>
              <p:cNvSpPr/>
              <p:nvPr/>
            </p:nvSpPr>
            <p:spPr>
              <a:xfrm>
                <a:off x="4624920" y="5021280"/>
                <a:ext cx="88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BPS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5754600" y="4114800"/>
              <a:ext cx="907920" cy="1305360"/>
              <a:chOff x="5754600" y="4114800"/>
              <a:chExt cx="907920" cy="1305360"/>
            </a:xfrm>
          </p:grpSpPr>
          <p:grpSp>
            <p:nvGrpSpPr>
              <p:cNvPr id="314" name=""/>
              <p:cNvGrpSpPr/>
              <p:nvPr/>
            </p:nvGrpSpPr>
            <p:grpSpPr>
              <a:xfrm>
                <a:off x="5754600" y="4114800"/>
                <a:ext cx="907920" cy="915480"/>
                <a:chOff x="5754600" y="4114800"/>
                <a:chExt cx="907920" cy="915480"/>
              </a:xfrm>
            </p:grpSpPr>
            <p:grpSp>
              <p:nvGrpSpPr>
                <p:cNvPr id="315" name=""/>
                <p:cNvGrpSpPr/>
                <p:nvPr/>
              </p:nvGrpSpPr>
              <p:grpSpPr>
                <a:xfrm>
                  <a:off x="5754600" y="4114800"/>
                  <a:ext cx="907920" cy="915480"/>
                  <a:chOff x="5754600" y="4114800"/>
                  <a:chExt cx="907920" cy="915480"/>
                </a:xfrm>
              </p:grpSpPr>
              <p:sp>
                <p:nvSpPr>
                  <p:cNvPr id="316" name=""/>
                  <p:cNvSpPr/>
                  <p:nvPr/>
                </p:nvSpPr>
                <p:spPr>
                  <a:xfrm flipV="1">
                    <a:off x="5754600" y="4570920"/>
                    <a:ext cx="907920" cy="144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6208560" y="4114800"/>
                    <a:ext cx="0" cy="91548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8" name=""/>
                <p:cNvGrpSpPr/>
                <p:nvPr/>
              </p:nvGrpSpPr>
              <p:grpSpPr>
                <a:xfrm>
                  <a:off x="5910120" y="4273560"/>
                  <a:ext cx="596160" cy="597960"/>
                  <a:chOff x="5910120" y="4273560"/>
                  <a:chExt cx="596160" cy="597960"/>
                </a:xfrm>
              </p:grpSpPr>
              <p:sp>
                <p:nvSpPr>
                  <p:cNvPr id="319" name=""/>
                  <p:cNvSpPr/>
                  <p:nvPr/>
                </p:nvSpPr>
                <p:spPr>
                  <a:xfrm>
                    <a:off x="5910120" y="473040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6366960" y="473040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5910120" y="427356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6366960" y="427356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23" name=""/>
              <p:cNvSpPr/>
              <p:nvPr/>
            </p:nvSpPr>
            <p:spPr>
              <a:xfrm>
                <a:off x="5759280" y="5021280"/>
                <a:ext cx="901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QPS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6805440" y="4114800"/>
              <a:ext cx="1058400" cy="1305360"/>
              <a:chOff x="6805440" y="4114800"/>
              <a:chExt cx="1058400" cy="1305360"/>
            </a:xfrm>
          </p:grpSpPr>
          <p:grpSp>
            <p:nvGrpSpPr>
              <p:cNvPr id="325" name=""/>
              <p:cNvGrpSpPr/>
              <p:nvPr/>
            </p:nvGrpSpPr>
            <p:grpSpPr>
              <a:xfrm>
                <a:off x="6879960" y="4114800"/>
                <a:ext cx="907920" cy="915480"/>
                <a:chOff x="6879960" y="4114800"/>
                <a:chExt cx="907920" cy="915480"/>
              </a:xfrm>
            </p:grpSpPr>
            <p:grpSp>
              <p:nvGrpSpPr>
                <p:cNvPr id="326" name=""/>
                <p:cNvGrpSpPr/>
                <p:nvPr/>
              </p:nvGrpSpPr>
              <p:grpSpPr>
                <a:xfrm>
                  <a:off x="6879960" y="4114800"/>
                  <a:ext cx="907920" cy="915480"/>
                  <a:chOff x="6879960" y="4114800"/>
                  <a:chExt cx="907920" cy="915480"/>
                </a:xfrm>
              </p:grpSpPr>
              <p:sp>
                <p:nvSpPr>
                  <p:cNvPr id="327" name=""/>
                  <p:cNvSpPr/>
                  <p:nvPr/>
                </p:nvSpPr>
                <p:spPr>
                  <a:xfrm flipV="1">
                    <a:off x="6879960" y="4570920"/>
                    <a:ext cx="907920" cy="144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7333920" y="4114800"/>
                    <a:ext cx="0" cy="91548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9" name=""/>
                <p:cNvGrpSpPr/>
                <p:nvPr/>
              </p:nvGrpSpPr>
              <p:grpSpPr>
                <a:xfrm>
                  <a:off x="6921360" y="4159080"/>
                  <a:ext cx="825480" cy="827280"/>
                  <a:chOff x="6921360" y="4159080"/>
                  <a:chExt cx="825480" cy="8272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6921360" y="48448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7378560" y="48448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6921360" y="43876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7378560" y="43876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6921360" y="46162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>
                    <a:off x="7378560" y="46162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>
                    <a:off x="6921360" y="41590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7378560" y="41590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7149960" y="48448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7607160" y="48448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7149960" y="43876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7607160" y="43876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7149960" y="46162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7607160" y="46162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7149960" y="41590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7607160" y="41590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46" name=""/>
              <p:cNvSpPr/>
              <p:nvPr/>
            </p:nvSpPr>
            <p:spPr>
              <a:xfrm>
                <a:off x="6805440" y="5021280"/>
                <a:ext cx="1058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16QA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7912080" y="4114800"/>
              <a:ext cx="1058400" cy="1305360"/>
              <a:chOff x="7912080" y="4114800"/>
              <a:chExt cx="1058400" cy="1305360"/>
            </a:xfrm>
          </p:grpSpPr>
          <p:grpSp>
            <p:nvGrpSpPr>
              <p:cNvPr id="348" name=""/>
              <p:cNvGrpSpPr/>
              <p:nvPr/>
            </p:nvGrpSpPr>
            <p:grpSpPr>
              <a:xfrm>
                <a:off x="7988040" y="4114800"/>
                <a:ext cx="907920" cy="915480"/>
                <a:chOff x="7988040" y="4114800"/>
                <a:chExt cx="907920" cy="915480"/>
              </a:xfrm>
            </p:grpSpPr>
            <p:grpSp>
              <p:nvGrpSpPr>
                <p:cNvPr id="349" name=""/>
                <p:cNvGrpSpPr/>
                <p:nvPr/>
              </p:nvGrpSpPr>
              <p:grpSpPr>
                <a:xfrm>
                  <a:off x="8005320" y="4132080"/>
                  <a:ext cx="874800" cy="880920"/>
                  <a:chOff x="8005320" y="4132080"/>
                  <a:chExt cx="874800" cy="880920"/>
                </a:xfrm>
              </p:grpSpPr>
              <p:sp>
                <p:nvSpPr>
                  <p:cNvPr id="350" name=""/>
                  <p:cNvSpPr/>
                  <p:nvPr/>
                </p:nvSpPr>
                <p:spPr>
                  <a:xfrm>
                    <a:off x="800532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846252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823392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>
                    <a:off x="869112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>
                    <a:off x="811980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57700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834840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>
                    <a:off x="8807040" y="48240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800532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846252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>
                    <a:off x="823392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869112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811980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857700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834840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880704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>
                    <a:off x="800532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6252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>
                    <a:off x="823392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869112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811980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857700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834840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8807040" y="45921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800532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846252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823392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869112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811980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857700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834840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880704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8005320" y="49384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8462520" y="49384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8233920" y="49384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8691120" y="49384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8119800" y="49399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8577000" y="49399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8348400" y="49399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8807040" y="49399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8005320" y="44748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8462520" y="44748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8233920" y="44748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8691120" y="44748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8119800" y="4476600"/>
                    <a:ext cx="73080" cy="727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040" bIns="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8577000" y="4476600"/>
                    <a:ext cx="73080" cy="727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040" bIns="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8348400" y="4476600"/>
                    <a:ext cx="73080" cy="727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040" bIns="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8807040" y="44748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8005320" y="470664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8462520" y="470664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8233920" y="470664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8691120" y="470664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8119800" y="4708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8577000" y="4708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8348400" y="4708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8807040" y="4708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800532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846252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823392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869112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811980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857700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834840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880704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4" name=""/>
                <p:cNvGrpSpPr/>
                <p:nvPr/>
              </p:nvGrpSpPr>
              <p:grpSpPr>
                <a:xfrm>
                  <a:off x="7988040" y="4114800"/>
                  <a:ext cx="907920" cy="915480"/>
                  <a:chOff x="7988040" y="4114800"/>
                  <a:chExt cx="907920" cy="915480"/>
                </a:xfrm>
              </p:grpSpPr>
              <p:sp>
                <p:nvSpPr>
                  <p:cNvPr id="415" name=""/>
                  <p:cNvSpPr/>
                  <p:nvPr/>
                </p:nvSpPr>
                <p:spPr>
                  <a:xfrm flipV="1">
                    <a:off x="7988040" y="4570920"/>
                    <a:ext cx="907920" cy="144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8442000" y="4114800"/>
                    <a:ext cx="0" cy="91548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17" name=""/>
              <p:cNvSpPr/>
              <p:nvPr/>
            </p:nvSpPr>
            <p:spPr>
              <a:xfrm>
                <a:off x="7912080" y="5021280"/>
                <a:ext cx="1058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64QA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8" name=""/>
          <p:cNvSpPr/>
          <p:nvPr/>
        </p:nvSpPr>
        <p:spPr>
          <a:xfrm>
            <a:off x="4564440" y="5389560"/>
            <a:ext cx="446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1/2, 2/3, 3/4-rate convolutional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rot="1687200">
            <a:off x="5133600" y="356076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rot="21147000">
            <a:off x="5971680" y="3547800"/>
            <a:ext cx="304920" cy="533160"/>
          </a:xfrm>
          <a:prstGeom prst="downArrow">
            <a:avLst>
              <a:gd name="adj1" fmla="val 50000"/>
              <a:gd name="adj2" fmla="val 43713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rot="1589400">
            <a:off x="7356600" y="3522240"/>
            <a:ext cx="304560" cy="533520"/>
          </a:xfrm>
          <a:prstGeom prst="downArrow">
            <a:avLst>
              <a:gd name="adj1" fmla="val 50000"/>
              <a:gd name="adj2" fmla="val 43794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rot="20269200">
            <a:off x="8153280" y="351468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558720" y="5942160"/>
            <a:ext cx="8086680" cy="459720"/>
            <a:chOff x="558720" y="5942160"/>
            <a:chExt cx="8086680" cy="459720"/>
          </a:xfrm>
        </p:grpSpPr>
        <p:sp>
          <p:nvSpPr>
            <p:cNvPr id="424" name=""/>
            <p:cNvSpPr/>
            <p:nvPr/>
          </p:nvSpPr>
          <p:spPr>
            <a:xfrm>
              <a:off x="558720" y="5942160"/>
              <a:ext cx="3289320" cy="459720"/>
            </a:xfrm>
            <a:prstGeom prst="rect">
              <a:avLst/>
            </a:prstGeom>
            <a:solidFill>
              <a:srgbClr val="15bdeb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00"/>
                  </a:solidFill>
                  <a:latin typeface="Arial"/>
                </a:rPr>
                <a:t>Reduced complex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948200" y="5942160"/>
              <a:ext cx="3697200" cy="459720"/>
            </a:xfrm>
            <a:prstGeom prst="rect">
              <a:avLst/>
            </a:prstGeom>
            <a:solidFill>
              <a:srgbClr val="15bdeb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00"/>
                  </a:solidFill>
                  <a:latin typeface="Arial"/>
                </a:rPr>
                <a:t>Increased perform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1205640" y="4121280"/>
            <a:ext cx="2037600" cy="1305360"/>
            <a:chOff x="1205640" y="4121280"/>
            <a:chExt cx="2037600" cy="1305360"/>
          </a:xfrm>
        </p:grpSpPr>
        <p:grpSp>
          <p:nvGrpSpPr>
            <p:cNvPr id="427" name=""/>
            <p:cNvGrpSpPr/>
            <p:nvPr/>
          </p:nvGrpSpPr>
          <p:grpSpPr>
            <a:xfrm>
              <a:off x="1205640" y="4121280"/>
              <a:ext cx="915120" cy="1305360"/>
              <a:chOff x="1205640" y="4121280"/>
              <a:chExt cx="915120" cy="1305360"/>
            </a:xfrm>
          </p:grpSpPr>
          <p:grpSp>
            <p:nvGrpSpPr>
              <p:cNvPr id="428" name=""/>
              <p:cNvGrpSpPr/>
              <p:nvPr/>
            </p:nvGrpSpPr>
            <p:grpSpPr>
              <a:xfrm>
                <a:off x="1212840" y="4121280"/>
                <a:ext cx="907920" cy="915480"/>
                <a:chOff x="1212840" y="4121280"/>
                <a:chExt cx="907920" cy="915480"/>
              </a:xfrm>
            </p:grpSpPr>
            <p:grpSp>
              <p:nvGrpSpPr>
                <p:cNvPr id="429" name=""/>
                <p:cNvGrpSpPr/>
                <p:nvPr/>
              </p:nvGrpSpPr>
              <p:grpSpPr>
                <a:xfrm>
                  <a:off x="1212840" y="4121280"/>
                  <a:ext cx="907920" cy="915480"/>
                  <a:chOff x="1212840" y="4121280"/>
                  <a:chExt cx="907920" cy="915480"/>
                </a:xfrm>
              </p:grpSpPr>
              <p:sp>
                <p:nvSpPr>
                  <p:cNvPr id="430" name=""/>
                  <p:cNvSpPr/>
                  <p:nvPr/>
                </p:nvSpPr>
                <p:spPr>
                  <a:xfrm flipV="1">
                    <a:off x="1212840" y="4577400"/>
                    <a:ext cx="907920" cy="144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1666800" y="4121280"/>
                    <a:ext cx="0" cy="91548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2" name=""/>
                <p:cNvGrpSpPr/>
                <p:nvPr/>
              </p:nvGrpSpPr>
              <p:grpSpPr>
                <a:xfrm>
                  <a:off x="1298520" y="4508640"/>
                  <a:ext cx="736560" cy="141120"/>
                  <a:chOff x="1298520" y="4508640"/>
                  <a:chExt cx="736560" cy="141120"/>
                </a:xfrm>
              </p:grpSpPr>
              <p:sp>
                <p:nvSpPr>
                  <p:cNvPr id="433" name=""/>
                  <p:cNvSpPr/>
                  <p:nvPr/>
                </p:nvSpPr>
                <p:spPr>
                  <a:xfrm>
                    <a:off x="1298520" y="4508640"/>
                    <a:ext cx="13968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1895400" y="4508640"/>
                    <a:ext cx="13968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35" name=""/>
              <p:cNvSpPr/>
              <p:nvPr/>
            </p:nvSpPr>
            <p:spPr>
              <a:xfrm>
                <a:off x="1205640" y="5027760"/>
                <a:ext cx="88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BPS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2335320" y="4121280"/>
              <a:ext cx="907920" cy="1305360"/>
              <a:chOff x="2335320" y="4121280"/>
              <a:chExt cx="907920" cy="1305360"/>
            </a:xfrm>
          </p:grpSpPr>
          <p:grpSp>
            <p:nvGrpSpPr>
              <p:cNvPr id="437" name=""/>
              <p:cNvGrpSpPr/>
              <p:nvPr/>
            </p:nvGrpSpPr>
            <p:grpSpPr>
              <a:xfrm>
                <a:off x="2335320" y="4121280"/>
                <a:ext cx="907920" cy="915480"/>
                <a:chOff x="2335320" y="4121280"/>
                <a:chExt cx="907920" cy="915480"/>
              </a:xfrm>
            </p:grpSpPr>
            <p:grpSp>
              <p:nvGrpSpPr>
                <p:cNvPr id="438" name=""/>
                <p:cNvGrpSpPr/>
                <p:nvPr/>
              </p:nvGrpSpPr>
              <p:grpSpPr>
                <a:xfrm>
                  <a:off x="2335320" y="4121280"/>
                  <a:ext cx="907920" cy="915480"/>
                  <a:chOff x="2335320" y="4121280"/>
                  <a:chExt cx="907920" cy="915480"/>
                </a:xfrm>
              </p:grpSpPr>
              <p:sp>
                <p:nvSpPr>
                  <p:cNvPr id="439" name=""/>
                  <p:cNvSpPr/>
                  <p:nvPr/>
                </p:nvSpPr>
                <p:spPr>
                  <a:xfrm flipV="1">
                    <a:off x="2335320" y="4577400"/>
                    <a:ext cx="907920" cy="144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2789280" y="4121280"/>
                    <a:ext cx="0" cy="91548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1" name=""/>
                <p:cNvGrpSpPr/>
                <p:nvPr/>
              </p:nvGrpSpPr>
              <p:grpSpPr>
                <a:xfrm>
                  <a:off x="2490840" y="4280040"/>
                  <a:ext cx="596160" cy="597960"/>
                  <a:chOff x="2490840" y="4280040"/>
                  <a:chExt cx="596160" cy="597960"/>
                </a:xfrm>
              </p:grpSpPr>
              <p:sp>
                <p:nvSpPr>
                  <p:cNvPr id="442" name=""/>
                  <p:cNvSpPr/>
                  <p:nvPr/>
                </p:nvSpPr>
                <p:spPr>
                  <a:xfrm>
                    <a:off x="2490840" y="473688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2947680" y="473688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2490840" y="428004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2947680" y="428004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46" name=""/>
              <p:cNvSpPr/>
              <p:nvPr/>
            </p:nvSpPr>
            <p:spPr>
              <a:xfrm>
                <a:off x="2340000" y="5027760"/>
                <a:ext cx="901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QPS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7" name=""/>
          <p:cNvGrpSpPr/>
          <p:nvPr/>
        </p:nvGrpSpPr>
        <p:grpSpPr>
          <a:xfrm>
            <a:off x="633240" y="2792520"/>
            <a:ext cx="3469680" cy="545760"/>
            <a:chOff x="633240" y="2792520"/>
            <a:chExt cx="3469680" cy="545760"/>
          </a:xfrm>
        </p:grpSpPr>
        <p:sp>
          <p:nvSpPr>
            <p:cNvPr id="448" name=""/>
            <p:cNvSpPr/>
            <p:nvPr/>
          </p:nvSpPr>
          <p:spPr>
            <a:xfrm>
              <a:off x="633240" y="3065400"/>
              <a:ext cx="346968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33240" y="2792520"/>
              <a:ext cx="3469680" cy="545760"/>
            </a:xfrm>
            <a:custGeom>
              <a:avLst/>
              <a:gdLst/>
              <a:ahLst/>
              <a:rect l="l" t="t" r="r" b="b"/>
              <a:pathLst>
                <a:path w="1056" h="336">
                  <a:moveTo>
                    <a:pt x="0" y="0"/>
                  </a:moveTo>
                  <a:lnTo>
                    <a:pt x="96" y="0"/>
                  </a:lnTo>
                  <a:lnTo>
                    <a:pt x="96" y="336"/>
                  </a:lnTo>
                  <a:lnTo>
                    <a:pt x="192" y="336"/>
                  </a:lnTo>
                  <a:lnTo>
                    <a:pt x="192" y="0"/>
                  </a:lnTo>
                  <a:lnTo>
                    <a:pt x="384" y="0"/>
                  </a:lnTo>
                  <a:lnTo>
                    <a:pt x="384" y="336"/>
                  </a:lnTo>
                  <a:lnTo>
                    <a:pt x="480" y="336"/>
                  </a:lnTo>
                  <a:lnTo>
                    <a:pt x="480" y="0"/>
                  </a:lnTo>
                  <a:lnTo>
                    <a:pt x="768" y="0"/>
                  </a:lnTo>
                  <a:lnTo>
                    <a:pt x="768" y="336"/>
                  </a:lnTo>
                  <a:lnTo>
                    <a:pt x="1056" y="336"/>
                  </a:lnTo>
                </a:path>
              </a:pathLst>
            </a:custGeom>
            <a:noFill/>
            <a:ln w="38160">
              <a:solidFill>
                <a:srgbClr val="00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595440" y="3473280"/>
            <a:ext cx="3538440" cy="0"/>
          </a:xfrm>
          <a:prstGeom prst="line">
            <a:avLst/>
          </a:prstGeom>
          <a:ln w="19080">
            <a:solidFill>
              <a:srgbClr val="80808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595440" y="3398760"/>
            <a:ext cx="3538440" cy="155520"/>
            <a:chOff x="595440" y="3398760"/>
            <a:chExt cx="3538440" cy="155520"/>
          </a:xfrm>
        </p:grpSpPr>
        <p:sp>
          <p:nvSpPr>
            <p:cNvPr id="452" name=""/>
            <p:cNvSpPr/>
            <p:nvPr/>
          </p:nvSpPr>
          <p:spPr>
            <a:xfrm>
              <a:off x="595440" y="3398760"/>
              <a:ext cx="0" cy="15552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133880" y="3398760"/>
              <a:ext cx="0" cy="15552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"/>
          <p:cNvSpPr/>
          <p:nvPr/>
        </p:nvSpPr>
        <p:spPr>
          <a:xfrm rot="20216400">
            <a:off x="905040" y="3664080"/>
            <a:ext cx="304560" cy="533160"/>
          </a:xfrm>
          <a:prstGeom prst="downArrow">
            <a:avLst>
              <a:gd name="adj1" fmla="val 50000"/>
              <a:gd name="adj2" fmla="val 43765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rot="1588800">
            <a:off x="3317760" y="354960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mparing 1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</a:rPr>
              <a:t>st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and 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</a:rPr>
              <a:t>nd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Gen W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8T03:19:41Z</dcterms:created>
  <dc:creator>Jeff Gilbert</dc:creator>
  <dc:description/>
  <dc:language>en-US</dc:language>
  <cp:lastModifiedBy>Sheung Li</cp:lastModifiedBy>
  <dcterms:modified xsi:type="dcterms:W3CDTF">2002-02-08T17:33:38Z</dcterms:modified>
  <cp:revision>618</cp:revision>
  <dc:subject>Wireless Internet 2001 Presentation</dc:subject>
  <dc:title>802.11a: A Real Networking Technology</dc:title>
</cp:coreProperties>
</file>