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17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21.png" ContentType="image/png"/>
  <Override PartName="/ppt/media/image19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745F-9EAB-4046-9974-AF746EBA9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r target market for LMDS is Small to Medium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in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Greater Green Bay Nearly 6000 company’s in th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yond Green B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usau  ** Eau Claire  ** Stevens Point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eton  ** Sturgeon Bay  ** Oshkosh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inette/Menominee  ** Manitowoc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nd du Lac  ** Sheboygan  ** Marshfield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ughton  ** Marquette  ** Ishpeming  *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ult Ste. Marie  ** Escanaba  ** Ironwoo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on Mountain  ** Rhinelander  **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s cost of equipment drops small towns become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for business and resident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882720" y="4340160"/>
            <a:ext cx="507672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h can be 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s can be set up and easily  reconfig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eet customer demand or work a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obstruction without site visits 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w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B16B1-07CE-4037-94A2-B5992A28F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08378-5545-44A0-B340-E9C562FC7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9A84A-24C2-4962-ABB2-ED8AC21BF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C6C61-2A1C-489F-AC90-F5DA815ABF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5FBFC-EF56-417F-817A-7DC94D64E1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22259-0F6A-46FF-8A48-6C799B913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65505-A9DE-4BD3-A95F-3181D002A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C5826-5B61-4388-AABE-CD8215876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33D84-D224-4FED-84CF-3C7E7E924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16BF1-A233-40EA-ACF5-1F0485A59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72C97-E1E3-44BF-9199-496812CC0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A81F4-4B5A-4272-9CAC-EECA84E1E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7A8B-2A19-41E2-B6B1-E70079028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header-logo" descr=""/>
          <p:cNvPicPr/>
          <p:nvPr/>
        </p:nvPicPr>
        <p:blipFill>
          <a:blip r:embed="rId2"/>
          <a:stretch/>
        </p:blipFill>
        <p:spPr>
          <a:xfrm>
            <a:off x="152280" y="6019920"/>
            <a:ext cx="1581120" cy="733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7200" y="1828800"/>
            <a:ext cx="81532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bnr_bwwf02%20copy" descr=""/>
          <p:cNvPicPr/>
          <p:nvPr/>
        </p:nvPicPr>
        <p:blipFill>
          <a:blip r:embed="rId1"/>
          <a:stretch/>
        </p:blipFill>
        <p:spPr>
          <a:xfrm>
            <a:off x="0" y="-14400"/>
            <a:ext cx="929628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9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1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12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14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16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1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1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2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2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2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2057400" y="2285280"/>
            <a:ext cx="5475600" cy="3658320"/>
            <a:chOff x="2057400" y="2285280"/>
            <a:chExt cx="5475600" cy="3658320"/>
          </a:xfrm>
        </p:grpSpPr>
        <p:cxnSp>
          <p:nvCxnSpPr>
            <p:cNvPr id="264" name=""/>
            <p:cNvCxnSpPr/>
            <p:nvPr/>
          </p:nvCxnSpPr>
          <p:spPr>
            <a:xfrm flipV="1">
              <a:off x="6400800" y="5486040"/>
              <a:ext cx="11325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5" name=""/>
            <p:cNvCxnSpPr/>
            <p:nvPr/>
          </p:nvCxnSpPr>
          <p:spPr>
            <a:xfrm flipV="1">
              <a:off x="2057400" y="228528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6" name=""/>
            <p:cNvCxnSpPr/>
            <p:nvPr/>
          </p:nvCxnSpPr>
          <p:spPr>
            <a:xfrm flipV="1">
              <a:off x="2133720" y="37332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7" name=""/>
            <p:cNvCxnSpPr/>
            <p:nvPr/>
          </p:nvCxnSpPr>
          <p:spPr>
            <a:xfrm flipV="1">
              <a:off x="4114800" y="3276000"/>
              <a:ext cx="1132560" cy="23076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" name=""/>
            <p:cNvCxnSpPr/>
            <p:nvPr/>
          </p:nvCxnSpPr>
          <p:spPr>
            <a:xfrm flipV="1">
              <a:off x="4419720" y="4495320"/>
              <a:ext cx="1132560" cy="2311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9" name=""/>
            <p:cNvCxnSpPr/>
            <p:nvPr/>
          </p:nvCxnSpPr>
          <p:spPr>
            <a:xfrm flipV="1">
              <a:off x="3593880" y="5333760"/>
              <a:ext cx="1130760" cy="5292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0" name=""/>
            <p:cNvCxnSpPr/>
            <p:nvPr/>
          </p:nvCxnSpPr>
          <p:spPr>
            <a:xfrm>
              <a:off x="2514240" y="4724280"/>
              <a:ext cx="1080360" cy="137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f Big Bandwidth Users Not Near Each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273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290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307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324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341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57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8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59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1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2" name=""/>
          <p:cNvCxnSpPr>
            <a:stCxn id="320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3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4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Can Not Serve Them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996840" y="1981080"/>
            <a:ext cx="2508120" cy="2195640"/>
            <a:chOff x="996840" y="1981080"/>
            <a:chExt cx="2508120" cy="2195640"/>
          </a:xfrm>
        </p:grpSpPr>
        <p:sp>
          <p:nvSpPr>
            <p:cNvPr id="379" name=""/>
            <p:cNvSpPr/>
            <p:nvPr/>
          </p:nvSpPr>
          <p:spPr>
            <a:xfrm>
              <a:off x="1257480" y="21823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36640" y="20674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913040" y="27478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71040" y="198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5960" y="2546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33960" y="203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50120" y="31024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19120" y="3313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05880" y="357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41600" y="3668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96840" y="40903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58880" y="400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336120" y="285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65520" y="3994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77400" y="34002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09160" y="2997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962520" y="2057400"/>
            <a:ext cx="2507760" cy="2195640"/>
            <a:chOff x="3962520" y="2057400"/>
            <a:chExt cx="2507760" cy="2195640"/>
          </a:xfrm>
        </p:grpSpPr>
        <p:sp>
          <p:nvSpPr>
            <p:cNvPr id="396" name=""/>
            <p:cNvSpPr/>
            <p:nvPr/>
          </p:nvSpPr>
          <p:spPr>
            <a:xfrm>
              <a:off x="4223160" y="22586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02320" y="21438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878360" y="28242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6360" y="2057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61640" y="2622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99280" y="2114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15440" y="31788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84800" y="3389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71560" y="3648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06920" y="3744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6664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24560" y="4080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01440" y="293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30840" y="40705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42720" y="347652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74840" y="30733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752480" y="3809880"/>
            <a:ext cx="2508120" cy="2195640"/>
            <a:chOff x="1752480" y="3809880"/>
            <a:chExt cx="2508120" cy="2195640"/>
          </a:xfrm>
        </p:grpSpPr>
        <p:sp>
          <p:nvSpPr>
            <p:cNvPr id="413" name=""/>
            <p:cNvSpPr/>
            <p:nvPr/>
          </p:nvSpPr>
          <p:spPr>
            <a:xfrm>
              <a:off x="2013120" y="4011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92280" y="38962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68680" y="45766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26680" y="3809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351600" y="43754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89600" y="38667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605760" y="49312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74760" y="51422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161520" y="5401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97240" y="54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52480" y="59191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4520" y="583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91760" y="4682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21160" y="58230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3040" y="52290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64800" y="4825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105520" y="3581280"/>
            <a:ext cx="2507760" cy="2195640"/>
            <a:chOff x="5105520" y="3581280"/>
            <a:chExt cx="2507760" cy="2195640"/>
          </a:xfrm>
        </p:grpSpPr>
        <p:sp>
          <p:nvSpPr>
            <p:cNvPr id="430" name=""/>
            <p:cNvSpPr/>
            <p:nvPr/>
          </p:nvSpPr>
          <p:spPr>
            <a:xfrm>
              <a:off x="5366160" y="37825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45320" y="36676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021360" y="434808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79360" y="3581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04640" y="4146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42280" y="363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58440" y="470268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27800" y="4913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14560" y="5172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549920" y="5268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05520" y="56905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67560" y="5604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44440" y="4453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73840" y="55944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85720" y="50004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17840" y="45972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176480" y="2006640"/>
            <a:ext cx="6824160" cy="4394160"/>
            <a:chOff x="1176480" y="2006640"/>
            <a:chExt cx="6824160" cy="4394160"/>
          </a:xfrm>
        </p:grpSpPr>
        <p:sp>
          <p:nvSpPr>
            <p:cNvPr id="447" name=""/>
            <p:cNvSpPr/>
            <p:nvPr/>
          </p:nvSpPr>
          <p:spPr>
            <a:xfrm>
              <a:off x="1885680" y="2409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89240" y="217980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68760" y="354168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635600" y="20066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27440" y="31384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86080" y="21211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18280" y="425124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25600" y="4673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10120" y="51912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827840" y="538344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176480" y="62276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977920" y="6054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540560" y="37530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87880" y="60357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71920" y="484668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82480" y="40402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463" name=""/>
          <p:cNvCxnSpPr/>
          <p:nvPr/>
        </p:nvCxnSpPr>
        <p:spPr>
          <a:xfrm flipV="1">
            <a:off x="2057400" y="2285280"/>
            <a:ext cx="1132560" cy="23076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4" name=""/>
          <p:cNvCxnSpPr/>
          <p:nvPr/>
        </p:nvCxnSpPr>
        <p:spPr>
          <a:xfrm flipV="1">
            <a:off x="2133720" y="37332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5" name=""/>
          <p:cNvCxnSpPr/>
          <p:nvPr/>
        </p:nvCxnSpPr>
        <p:spPr>
          <a:xfrm flipV="1">
            <a:off x="4114800" y="3276000"/>
            <a:ext cx="1132560" cy="23076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6" name=""/>
          <p:cNvCxnSpPr/>
          <p:nvPr/>
        </p:nvCxnSpPr>
        <p:spPr>
          <a:xfrm flipV="1">
            <a:off x="4419720" y="4495320"/>
            <a:ext cx="1132560" cy="2311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7" name=""/>
          <p:cNvCxnSpPr/>
          <p:nvPr/>
        </p:nvCxnSpPr>
        <p:spPr>
          <a:xfrm flipV="1">
            <a:off x="6400800" y="5486040"/>
            <a:ext cx="1132560" cy="45792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8" name=""/>
          <p:cNvCxnSpPr>
            <a:stCxn id="426" idx="6"/>
          </p:cNvCxnSpPr>
          <p:nvPr/>
        </p:nvCxnSpPr>
        <p:spPr>
          <a:xfrm flipV="1">
            <a:off x="3593880" y="5333760"/>
            <a:ext cx="1130760" cy="529200"/>
          </a:xfrm>
          <a:prstGeom prst="straightConnector1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69" name=""/>
          <p:cNvCxnSpPr/>
          <p:nvPr/>
        </p:nvCxnSpPr>
        <p:spPr>
          <a:xfrm>
            <a:off x="2514240" y="4724280"/>
            <a:ext cx="1080360" cy="137520"/>
          </a:xfrm>
          <a:prstGeom prst="straightConnector1">
            <a:avLst/>
          </a:prstGeom>
          <a:ln w="7632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70" name=""/>
          <p:cNvSpPr/>
          <p:nvPr/>
        </p:nvSpPr>
        <p:spPr>
          <a:xfrm>
            <a:off x="281952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33720" y="44956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28600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8120" y="198108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4648320"/>
            <a:ext cx="457200" cy="45720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81280" y="4724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4114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696080" y="5257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7280" y="58672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29000" y="34290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71600" y="38862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4120" y="297180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57600" y="3352680"/>
            <a:ext cx="457200" cy="457200"/>
          </a:xfrm>
          <a:prstGeom prst="ellipse">
            <a:avLst/>
          </a:prstGeom>
          <a:solidFill>
            <a:srgbClr val="ff3300">
              <a:alpha val="50000"/>
            </a:srgbClr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ditional LMDS Techn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Point    P2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int to Multi-Point     P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996840" y="2085840"/>
            <a:ext cx="2508120" cy="2195640"/>
            <a:chOff x="996840" y="2085840"/>
            <a:chExt cx="2508120" cy="2195640"/>
          </a:xfrm>
        </p:grpSpPr>
        <p:sp>
          <p:nvSpPr>
            <p:cNvPr id="487" name=""/>
            <p:cNvSpPr/>
            <p:nvPr/>
          </p:nvSpPr>
          <p:spPr>
            <a:xfrm>
              <a:off x="1257480" y="2287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36640" y="2172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913040" y="2852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71040" y="2085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95960" y="2651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433960" y="2142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50120" y="3207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19120" y="3418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405880" y="3677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441600" y="3773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96840" y="4195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58880" y="4108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36120" y="2958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765520" y="4098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77400" y="3504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09160" y="3101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962520" y="2604960"/>
            <a:ext cx="2507760" cy="2195640"/>
            <a:chOff x="3962520" y="2604960"/>
            <a:chExt cx="2507760" cy="2195640"/>
          </a:xfrm>
        </p:grpSpPr>
        <p:sp>
          <p:nvSpPr>
            <p:cNvPr id="506" name=""/>
            <p:cNvSpPr/>
            <p:nvPr/>
          </p:nvSpPr>
          <p:spPr>
            <a:xfrm>
              <a:off x="4223160" y="2806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02320" y="26913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78360" y="337176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36360" y="2604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61640" y="3170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99280" y="2661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15440" y="372636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84800" y="3937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371560" y="4196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06920" y="42922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962520" y="47142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24560" y="462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301440" y="3477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30840" y="46180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842720" y="40240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74840" y="36208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752480" y="4357800"/>
            <a:ext cx="2508120" cy="2195280"/>
            <a:chOff x="1752480" y="4357800"/>
            <a:chExt cx="2508120" cy="2195280"/>
          </a:xfrm>
        </p:grpSpPr>
        <p:sp>
          <p:nvSpPr>
            <p:cNvPr id="523" name=""/>
            <p:cNvSpPr/>
            <p:nvPr/>
          </p:nvSpPr>
          <p:spPr>
            <a:xfrm>
              <a:off x="2013120" y="45590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492280" y="44442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668680" y="51246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126680" y="43578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51600" y="4923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189600" y="4414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05760" y="54792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74760" y="5690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61520" y="59486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97240" y="6044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52480" y="64666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414520" y="6380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91760" y="5230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21160" y="63705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633040" y="57765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64800" y="53737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105520" y="4129200"/>
            <a:ext cx="2507760" cy="2195280"/>
            <a:chOff x="5105520" y="4129200"/>
            <a:chExt cx="2507760" cy="2195280"/>
          </a:xfrm>
        </p:grpSpPr>
        <p:sp>
          <p:nvSpPr>
            <p:cNvPr id="540" name=""/>
            <p:cNvSpPr/>
            <p:nvPr/>
          </p:nvSpPr>
          <p:spPr>
            <a:xfrm>
              <a:off x="5366160" y="43304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45320" y="421560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21360" y="489600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479360" y="4129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04640" y="46944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42280" y="418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958440" y="525060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27800" y="5461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514560" y="5720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549920" y="58161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05520" y="623808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67560" y="6151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44440" y="50014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73840" y="61419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85720" y="554796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217840" y="514512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1176480" y="2082960"/>
            <a:ext cx="6824160" cy="4394160"/>
            <a:chOff x="1176480" y="2082960"/>
            <a:chExt cx="6824160" cy="4394160"/>
          </a:xfrm>
        </p:grpSpPr>
        <p:sp>
          <p:nvSpPr>
            <p:cNvPr id="557" name=""/>
            <p:cNvSpPr/>
            <p:nvPr/>
          </p:nvSpPr>
          <p:spPr>
            <a:xfrm>
              <a:off x="1885680" y="24861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89240" y="225612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68760" y="361800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35600" y="20829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27440" y="32148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86080" y="219744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18280" y="432756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325600" y="474984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10120" y="52675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827840" y="545976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76480" y="63039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977920" y="61311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40560" y="382932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987880" y="611208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71920" y="492300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82480" y="411660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"/>
          <p:cNvSpPr/>
          <p:nvPr/>
        </p:nvSpPr>
        <p:spPr>
          <a:xfrm flipV="1">
            <a:off x="1981080" y="230004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733920" y="5043600"/>
            <a:ext cx="1295280" cy="30456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5638680" y="3290760"/>
            <a:ext cx="609840" cy="106704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01400" y="2193480"/>
            <a:ext cx="51624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scriber units are co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5515560"/>
            <a:ext cx="914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Delivers large bands of data up to OC-3 and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027400" y="4343040"/>
            <a:ext cx="35060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Line of sight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63160" y="3276000"/>
            <a:ext cx="6371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eed big customers close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C-3 ???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533520" y="2209680"/>
            <a:ext cx="17524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ich of these customers want 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OC-3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996840" y="2133720"/>
            <a:ext cx="2508120" cy="2195280"/>
            <a:chOff x="996840" y="2133720"/>
            <a:chExt cx="2508120" cy="2195280"/>
          </a:xfrm>
        </p:grpSpPr>
        <p:sp>
          <p:nvSpPr>
            <p:cNvPr id="585" name=""/>
            <p:cNvSpPr/>
            <p:nvPr/>
          </p:nvSpPr>
          <p:spPr>
            <a:xfrm>
              <a:off x="1257480" y="2334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36640" y="2220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13040" y="2900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371040" y="2133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95960" y="2698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33960" y="2190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50120" y="3255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19120" y="3466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05880" y="3724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441600" y="38206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96840" y="424260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658880" y="4156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336120" y="30060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765520" y="414648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77400" y="355248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109160" y="3149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2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3962520" y="2652840"/>
            <a:ext cx="2507760" cy="2195280"/>
            <a:chOff x="3962520" y="2652840"/>
            <a:chExt cx="2507760" cy="2195280"/>
          </a:xfrm>
        </p:grpSpPr>
        <p:sp>
          <p:nvSpPr>
            <p:cNvPr id="604" name=""/>
            <p:cNvSpPr/>
            <p:nvPr/>
          </p:nvSpPr>
          <p:spPr>
            <a:xfrm>
              <a:off x="4223160" y="285408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702320" y="273924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78360" y="341964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36360" y="26528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561640" y="321804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9280" y="2709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815440" y="377424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384800" y="3985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371560" y="4243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406920" y="43398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62520" y="476172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24560" y="467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301440" y="35251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30840" y="466560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42720" y="407160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74840" y="366876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752480" y="4405320"/>
            <a:ext cx="2508120" cy="2195640"/>
            <a:chOff x="1752480" y="4405320"/>
            <a:chExt cx="2508120" cy="2195640"/>
          </a:xfrm>
        </p:grpSpPr>
        <p:sp>
          <p:nvSpPr>
            <p:cNvPr id="621" name=""/>
            <p:cNvSpPr/>
            <p:nvPr/>
          </p:nvSpPr>
          <p:spPr>
            <a:xfrm>
              <a:off x="2013120" y="46065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92280" y="44917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68680" y="51721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26680" y="44053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51600" y="49708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189600" y="44622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605760" y="55267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174760" y="57376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161520" y="59965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97240" y="60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52480" y="65145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414520" y="64281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091760" y="52779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21160" y="64184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33040" y="58244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64800" y="54212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105520" y="4176720"/>
            <a:ext cx="2507760" cy="2195640"/>
            <a:chOff x="5105520" y="4176720"/>
            <a:chExt cx="2507760" cy="2195640"/>
          </a:xfrm>
        </p:grpSpPr>
        <p:sp>
          <p:nvSpPr>
            <p:cNvPr id="638" name=""/>
            <p:cNvSpPr/>
            <p:nvPr/>
          </p:nvSpPr>
          <p:spPr>
            <a:xfrm>
              <a:off x="5366160" y="437796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45320" y="4263120"/>
              <a:ext cx="55800" cy="759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21360" y="4943520"/>
              <a:ext cx="5580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479360" y="41767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4640" y="47422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42280" y="423360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58440" y="5298120"/>
              <a:ext cx="5580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27800" y="550908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14560" y="576792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9920" y="58640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05520" y="6285960"/>
              <a:ext cx="5652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67560" y="61995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444440" y="5049360"/>
              <a:ext cx="5652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73840" y="61898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85720" y="5595840"/>
              <a:ext cx="56160" cy="864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17840" y="5192640"/>
              <a:ext cx="63360" cy="766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1176480" y="2133720"/>
            <a:ext cx="6824160" cy="4394160"/>
            <a:chOff x="1176480" y="2133720"/>
            <a:chExt cx="6824160" cy="4394160"/>
          </a:xfrm>
        </p:grpSpPr>
        <p:sp>
          <p:nvSpPr>
            <p:cNvPr id="655" name=""/>
            <p:cNvSpPr/>
            <p:nvPr/>
          </p:nvSpPr>
          <p:spPr>
            <a:xfrm>
              <a:off x="1885680" y="25369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189240" y="2306880"/>
              <a:ext cx="15192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668760" y="3668760"/>
              <a:ext cx="1519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35600" y="21337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27440" y="326556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086080" y="224820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218280" y="4378320"/>
              <a:ext cx="1519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25600" y="480060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010120" y="531828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827840" y="5510520"/>
              <a:ext cx="17280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176480" y="635472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77920" y="6181920"/>
              <a:ext cx="15372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40560" y="3880080"/>
              <a:ext cx="15372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87880" y="616284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71920" y="4973760"/>
              <a:ext cx="15336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82480" y="4167360"/>
              <a:ext cx="17280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 flipV="1">
            <a:off x="1981080" y="2347560"/>
            <a:ext cx="1219320" cy="22860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33920" y="5091120"/>
            <a:ext cx="1295280" cy="30492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 flipV="1">
            <a:off x="5638680" y="3338280"/>
            <a:ext cx="609840" cy="1066680"/>
          </a:xfrm>
          <a:prstGeom prst="line">
            <a:avLst/>
          </a:prstGeom>
          <a:ln w="7308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073520" y="2118240"/>
            <a:ext cx="6936480" cy="28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t can work in large urban cen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ere the distance between bi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bandwidth customers is short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customers can support the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573280" y="5083920"/>
            <a:ext cx="56959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Our company does not 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any large urban ce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678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57040" y="3344400"/>
            <a:ext cx="3274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ase Station very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$$$$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PMP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46160" y="4978440"/>
            <a:ext cx="30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Termi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are not free either $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996840" y="2082960"/>
            <a:ext cx="6824880" cy="4394160"/>
            <a:chOff x="996840" y="2082960"/>
            <a:chExt cx="6824880" cy="4394160"/>
          </a:xfrm>
        </p:grpSpPr>
        <p:sp>
          <p:nvSpPr>
            <p:cNvPr id="702" name=""/>
            <p:cNvSpPr/>
            <p:nvPr/>
          </p:nvSpPr>
          <p:spPr>
            <a:xfrm>
              <a:off x="1706400" y="248616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009960" y="225612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89480" y="361800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56320" y="20829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348160" y="3214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906800" y="219744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039000" y="432756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46320" y="47498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30840" y="5267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48560" y="545976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996840" y="630396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798640" y="6131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361280" y="382932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08600" y="611208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92640" y="492300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303200" y="411660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3429000" y="313524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een%20air" descr=""/>
          <p:cNvPicPr/>
          <p:nvPr/>
        </p:nvPicPr>
        <p:blipFill>
          <a:blip r:embed="rId1"/>
          <a:stretch/>
        </p:blipFill>
        <p:spPr>
          <a:xfrm>
            <a:off x="-1219320" y="-431640"/>
            <a:ext cx="10896840" cy="7262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6324840" cy="114300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er 2 and Tier 3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 Area Econom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H. Rior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ve Vice Presi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eader-logo" descr=""/>
          <p:cNvPicPr/>
          <p:nvPr/>
        </p:nvPicPr>
        <p:blipFill>
          <a:blip r:embed="rId2"/>
          <a:stretch/>
        </p:blipFill>
        <p:spPr>
          <a:xfrm>
            <a:off x="3753000" y="4876920"/>
            <a:ext cx="15811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re Enough Customers Close to the To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22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40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41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Blind Sp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51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  <p:grpSp>
        <p:nvGrpSpPr>
          <p:cNvPr id="769" name=""/>
          <p:cNvGrpSpPr/>
          <p:nvPr/>
        </p:nvGrpSpPr>
        <p:grpSpPr>
          <a:xfrm>
            <a:off x="838080" y="1905120"/>
            <a:ext cx="7086600" cy="4647600"/>
            <a:chOff x="838080" y="1905120"/>
            <a:chExt cx="7086600" cy="4647600"/>
          </a:xfrm>
        </p:grpSpPr>
        <p:sp>
          <p:nvSpPr>
            <p:cNvPr id="770" name=""/>
            <p:cNvSpPr/>
            <p:nvPr/>
          </p:nvSpPr>
          <p:spPr>
            <a:xfrm>
              <a:off x="7315200" y="190512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162920" y="3657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467480" y="52574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386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666880" y="594324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38080" y="6095880"/>
              <a:ext cx="457200" cy="456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4800600" y="2057400"/>
            <a:ext cx="1523880" cy="2590920"/>
            <a:chOff x="4800600" y="2057400"/>
            <a:chExt cx="1523880" cy="2590920"/>
          </a:xfrm>
        </p:grpSpPr>
        <p:sp>
          <p:nvSpPr>
            <p:cNvPr id="777" name=""/>
            <p:cNvSpPr/>
            <p:nvPr/>
          </p:nvSpPr>
          <p:spPr>
            <a:xfrm>
              <a:off x="4800600" y="205740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05520" y="3048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867280" y="4191120"/>
              <a:ext cx="457200" cy="45720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 MORE TO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790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ds Cost $$$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18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990720" y="1905120"/>
            <a:ext cx="5333760" cy="396216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962520" y="1905120"/>
            <a:ext cx="2647800" cy="3105000"/>
          </a:xfrm>
          <a:custGeom>
            <a:avLst/>
            <a:gdLst/>
            <a:ahLst/>
            <a:rect l="l" t="t" r="r" b="b"/>
            <a:pathLst>
              <a:path w="1668" h="1956">
                <a:moveTo>
                  <a:pt x="0" y="336"/>
                </a:moveTo>
                <a:lnTo>
                  <a:pt x="288" y="0"/>
                </a:lnTo>
                <a:lnTo>
                  <a:pt x="1392" y="192"/>
                </a:lnTo>
                <a:lnTo>
                  <a:pt x="1668" y="1956"/>
                </a:lnTo>
                <a:lnTo>
                  <a:pt x="192" y="1152"/>
                </a:lnTo>
                <a:lnTo>
                  <a:pt x="336" y="1200"/>
                </a:lnTo>
                <a:lnTo>
                  <a:pt x="336" y="432"/>
                </a:lnTo>
                <a:lnTo>
                  <a:pt x="96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62520" y="1752480"/>
            <a:ext cx="5257800" cy="4114800"/>
          </a:xfrm>
          <a:prstGeom prst="ellipse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quires Frequency Coordin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429000" y="3124080"/>
            <a:ext cx="304920" cy="762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6386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666880" y="594360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8080" y="6095880"/>
            <a:ext cx="4572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952800" y="3805200"/>
            <a:ext cx="2119320" cy="1728720"/>
          </a:xfrm>
          <a:custGeom>
            <a:avLst/>
            <a:gdLst/>
            <a:ahLst/>
            <a:rect l="l" t="t" r="r" b="b"/>
            <a:pathLst>
              <a:path w="1335" h="1089">
                <a:moveTo>
                  <a:pt x="246" y="3"/>
                </a:moveTo>
                <a:lnTo>
                  <a:pt x="1335" y="579"/>
                </a:lnTo>
                <a:lnTo>
                  <a:pt x="1221" y="738"/>
                </a:lnTo>
                <a:lnTo>
                  <a:pt x="1074" y="879"/>
                </a:lnTo>
                <a:lnTo>
                  <a:pt x="933" y="990"/>
                </a:lnTo>
                <a:lnTo>
                  <a:pt x="759" y="1089"/>
                </a:lnTo>
                <a:lnTo>
                  <a:pt x="534" y="963"/>
                </a:lnTo>
                <a:lnTo>
                  <a:pt x="327" y="777"/>
                </a:lnTo>
                <a:lnTo>
                  <a:pt x="171" y="570"/>
                </a:lnTo>
                <a:lnTo>
                  <a:pt x="72" y="378"/>
                </a:lnTo>
                <a:lnTo>
                  <a:pt x="18" y="180"/>
                </a:lnTo>
                <a:lnTo>
                  <a:pt x="0" y="0"/>
                </a:lnTo>
                <a:lnTo>
                  <a:pt x="246" y="3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53080" y="3048120"/>
            <a:ext cx="304920" cy="7617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996840" y="2071800"/>
            <a:ext cx="6824880" cy="4394160"/>
            <a:chOff x="996840" y="2071800"/>
            <a:chExt cx="6824880" cy="4394160"/>
          </a:xfrm>
        </p:grpSpPr>
        <p:sp>
          <p:nvSpPr>
            <p:cNvPr id="847" name=""/>
            <p:cNvSpPr/>
            <p:nvPr/>
          </p:nvSpPr>
          <p:spPr>
            <a:xfrm>
              <a:off x="1706400" y="247500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009960" y="2244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489480" y="360684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456320" y="20718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348160" y="320364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06800" y="21862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039000" y="431640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46320" y="47386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30840" y="52563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48560" y="544860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96840" y="629280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98640" y="61200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361280" y="381816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08600" y="610092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92640" y="491184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303200" y="4105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3809880" y="3352680"/>
            <a:ext cx="533520" cy="4572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96" y="0"/>
                </a:moveTo>
                <a:lnTo>
                  <a:pt x="336" y="288"/>
                </a:lnTo>
                <a:lnTo>
                  <a:pt x="0" y="288"/>
                </a:lnTo>
                <a:lnTo>
                  <a:pt x="96" y="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1"/>
          <a:stretch/>
        </p:blipFill>
        <p:spPr>
          <a:xfrm>
            <a:off x="3962520" y="2438280"/>
            <a:ext cx="61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llenge of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9040" y="1980360"/>
            <a:ext cx="80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ction started Wednesday, February 1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 128 rounds ending March 28, 19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01200" y="3366360"/>
            <a:ext cx="71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ate very few successful deploy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99400" y="4236120"/>
            <a:ext cx="751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now only two options for deploy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to Multi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 WE NEED TO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KE IT 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t Effective at &lt; 1 meg to 25 M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mit Blind Sp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ver Larger Area (w/ limited big us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99.999% ‘Up Time’ (carrier gr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ndant Routes (multiple path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st Deployment (easy align and mou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exible Bandwidth (change w/o visit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THE CUSTOMER WA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85800" y="2209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ame things customers need in the big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990720" y="2909880"/>
            <a:ext cx="4572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 speed connections 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ir office / home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s / inven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anch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 site data storage (9-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791320" y="3124080"/>
            <a:ext cx="25905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as fast as large busin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 few meg will do for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057400" y="60199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of course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304920" y="932040"/>
          <a:ext cx="8381880" cy="56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32040"/>
                    <a:ext cx="8381880" cy="56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8" name=""/>
          <p:cNvGrpSpPr/>
          <p:nvPr/>
        </p:nvGrpSpPr>
        <p:grpSpPr>
          <a:xfrm>
            <a:off x="840240" y="1186920"/>
            <a:ext cx="7770240" cy="4559760"/>
            <a:chOff x="840240" y="1186920"/>
            <a:chExt cx="7770240" cy="4559760"/>
          </a:xfrm>
        </p:grpSpPr>
        <p:graphicFrame>
          <p:nvGraphicFramePr>
            <p:cNvPr id="879" name=""/>
            <p:cNvGraphicFramePr/>
            <p:nvPr/>
          </p:nvGraphicFramePr>
          <p:xfrm>
            <a:off x="5334120" y="2590920"/>
            <a:ext cx="3276360" cy="3155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4120" y="2590920"/>
                      <a:ext cx="3276360" cy="315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81" name=""/>
            <p:cNvGrpSpPr/>
            <p:nvPr/>
          </p:nvGrpSpPr>
          <p:grpSpPr>
            <a:xfrm>
              <a:off x="840240" y="1186920"/>
              <a:ext cx="7768800" cy="4281840"/>
              <a:chOff x="840240" y="1186920"/>
              <a:chExt cx="7768800" cy="4281840"/>
            </a:xfrm>
          </p:grpSpPr>
          <p:graphicFrame>
            <p:nvGraphicFramePr>
              <p:cNvPr id="882" name=""/>
              <p:cNvGraphicFramePr/>
              <p:nvPr/>
            </p:nvGraphicFramePr>
            <p:xfrm>
              <a:off x="1369800" y="1390680"/>
              <a:ext cx="6097680" cy="40780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88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369800" y="1390680"/>
                        <a:ext cx="6097680" cy="407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84" name=""/>
              <p:cNvSpPr txBox="1"/>
              <p:nvPr/>
            </p:nvSpPr>
            <p:spPr>
              <a:xfrm>
                <a:off x="5941800" y="3314880"/>
                <a:ext cx="60984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7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5" name=""/>
              <p:cNvSpPr txBox="1"/>
              <p:nvPr/>
            </p:nvSpPr>
            <p:spPr>
              <a:xfrm>
                <a:off x="5865840" y="43052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13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6" name=""/>
              <p:cNvSpPr txBox="1"/>
              <p:nvPr/>
            </p:nvSpPr>
            <p:spPr>
              <a:xfrm>
                <a:off x="7008840" y="3848040"/>
                <a:ext cx="60948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36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7" name=""/>
              <p:cNvSpPr txBox="1"/>
              <p:nvPr/>
            </p:nvSpPr>
            <p:spPr>
              <a:xfrm>
                <a:off x="1674720" y="3543480"/>
                <a:ext cx="1371600" cy="6476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effectLst>
                      <a:outerShdw dist="17819" dir="2700000" blurRad="0" rotWithShape="0">
                        <a:srgbClr val="808080"/>
                      </a:outerShdw>
                    </a:effectLst>
                    <a:latin typeface="Arial Black"/>
                  </a:rPr>
                  <a:t>5,951</a:t>
                </a:r>
                <a:endPara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40240" y="1186920"/>
                <a:ext cx="7075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Green Bay Small/Medium Business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228320" y="1899720"/>
                <a:ext cx="29347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0-25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1-500 Employe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417920" y="1964160"/>
                <a:ext cx="4191120" cy="703800"/>
              </a:xfrm>
              <a:prstGeom prst="rect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Target Market in Gree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</a:t>
                </a:r>
                <a:r>
                  <a:rPr b="1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~  6,000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988920" y="2133720"/>
                <a:ext cx="533520" cy="1295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780240" y="2743200"/>
                <a:ext cx="38088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4188960" y="2743200"/>
                <a:ext cx="2590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988920" y="2133720"/>
                <a:ext cx="30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5" name=""/>
          <p:cNvGrpSpPr/>
          <p:nvPr/>
        </p:nvGrpSpPr>
        <p:grpSpPr>
          <a:xfrm>
            <a:off x="2438280" y="5409000"/>
            <a:ext cx="5936400" cy="1222920"/>
            <a:chOff x="2438280" y="5409000"/>
            <a:chExt cx="5936400" cy="1222920"/>
          </a:xfrm>
        </p:grpSpPr>
        <p:sp>
          <p:nvSpPr>
            <p:cNvPr id="896" name=""/>
            <p:cNvSpPr/>
            <p:nvPr/>
          </p:nvSpPr>
          <p:spPr>
            <a:xfrm>
              <a:off x="4868640" y="5409000"/>
              <a:ext cx="350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501-1000 Employees (dark b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1000+ Employees (light blu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438280" y="6172200"/>
              <a:ext cx="5791320" cy="4597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Large Businesses in Blue Served by Fib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33520" y="45720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THERE ANY CUSTOM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03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7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08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16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2286000"/>
            <a:ext cx="182880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don’t have a NFL team or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Lambea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iel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4876920"/>
            <a:ext cx="37335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LLAGES &amp; TOW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camera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685800" y="2209680"/>
            <a:ext cx="1600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f priced right it can work in villages  and small tow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lmds" descr=""/>
          <p:cNvPicPr/>
          <p:nvPr/>
        </p:nvPicPr>
        <p:blipFill>
          <a:blip r:embed="rId1"/>
          <a:stretch/>
        </p:blipFill>
        <p:spPr>
          <a:xfrm>
            <a:off x="76320" y="0"/>
            <a:ext cx="9067680" cy="586728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n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038480" y="3352680"/>
            <a:ext cx="45720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1752480" y="3048120"/>
            <a:ext cx="1676520" cy="685800"/>
            <a:chOff x="1752480" y="3048120"/>
            <a:chExt cx="1676520" cy="685800"/>
          </a:xfrm>
        </p:grpSpPr>
        <p:sp>
          <p:nvSpPr>
            <p:cNvPr id="931" name=""/>
            <p:cNvSpPr/>
            <p:nvPr/>
          </p:nvSpPr>
          <p:spPr>
            <a:xfrm>
              <a:off x="2971800" y="30481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52480" y="31240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124080" y="3352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590920" y="31240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590920" y="1600200"/>
            <a:ext cx="4419360" cy="2743200"/>
            <a:chOff x="2590920" y="1600200"/>
            <a:chExt cx="4419360" cy="2743200"/>
          </a:xfrm>
        </p:grpSpPr>
        <p:sp>
          <p:nvSpPr>
            <p:cNvPr id="936" name=""/>
            <p:cNvSpPr/>
            <p:nvPr/>
          </p:nvSpPr>
          <p:spPr>
            <a:xfrm>
              <a:off x="3886200" y="36576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43400" y="35812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67080" y="3962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419720" y="160020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057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90920" y="16765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505320" y="2438280"/>
              <a:ext cx="304560" cy="38124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581280" y="1219320"/>
            <a:ext cx="1371600" cy="2971800"/>
            <a:chOff x="3581280" y="1219320"/>
            <a:chExt cx="1371600" cy="2971800"/>
          </a:xfrm>
        </p:grpSpPr>
        <p:sp>
          <p:nvSpPr>
            <p:cNvPr id="944" name=""/>
            <p:cNvSpPr/>
            <p:nvPr/>
          </p:nvSpPr>
          <p:spPr>
            <a:xfrm>
              <a:off x="3962520" y="3505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343400" y="2819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038480" y="38098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581280" y="12193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267080" y="167652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648320" y="2362320"/>
              <a:ext cx="304560" cy="380880"/>
            </a:xfrm>
            <a:custGeom>
              <a:avLst/>
              <a:gdLst>
                <a:gd name="textAreaLeft" fmla="*/ 125280 w 304560"/>
                <a:gd name="textAreaRight" fmla="*/ 179280 w 30456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38480" y="2209680"/>
              <a:ext cx="304920" cy="38124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572000" y="2971800"/>
              <a:ext cx="304920" cy="380880"/>
            </a:xfrm>
            <a:custGeom>
              <a:avLst/>
              <a:gdLst>
                <a:gd name="textAreaLeft" fmla="*/ 125640 w 304920"/>
                <a:gd name="textAreaRight" fmla="*/ 179280 w 30492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167652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midwest%20pop" descr=""/>
          <p:cNvPicPr/>
          <p:nvPr/>
        </p:nvPicPr>
        <p:blipFill>
          <a:blip r:embed="rId1"/>
          <a:stretch/>
        </p:blipFill>
        <p:spPr>
          <a:xfrm>
            <a:off x="-4114800" y="-533520"/>
            <a:ext cx="13411080" cy="9753840"/>
          </a:xfrm>
          <a:prstGeom prst="rect">
            <a:avLst/>
          </a:prstGeom>
          <a:ln w="0">
            <a:noFill/>
          </a:ln>
        </p:spPr>
      </p:pic>
      <p:sp>
        <p:nvSpPr>
          <p:cNvPr id="954" name=""/>
          <p:cNvSpPr/>
          <p:nvPr/>
        </p:nvSpPr>
        <p:spPr>
          <a:xfrm>
            <a:off x="2514600" y="990720"/>
            <a:ext cx="5715000" cy="3352680"/>
          </a:xfrm>
          <a:custGeom>
            <a:avLst/>
            <a:gdLst/>
            <a:ahLst/>
            <a:rect l="l" t="t" r="r" b="b"/>
            <a:pathLst>
              <a:path w="3600" h="2112">
                <a:moveTo>
                  <a:pt x="528" y="480"/>
                </a:moveTo>
                <a:lnTo>
                  <a:pt x="528" y="1104"/>
                </a:lnTo>
                <a:lnTo>
                  <a:pt x="0" y="1200"/>
                </a:lnTo>
                <a:lnTo>
                  <a:pt x="0" y="1584"/>
                </a:lnTo>
                <a:lnTo>
                  <a:pt x="912" y="2064"/>
                </a:lnTo>
                <a:lnTo>
                  <a:pt x="1680" y="2112"/>
                </a:lnTo>
                <a:lnTo>
                  <a:pt x="2112" y="1104"/>
                </a:lnTo>
                <a:lnTo>
                  <a:pt x="2928" y="912"/>
                </a:lnTo>
                <a:lnTo>
                  <a:pt x="3504" y="1104"/>
                </a:lnTo>
                <a:lnTo>
                  <a:pt x="3600" y="816"/>
                </a:lnTo>
                <a:lnTo>
                  <a:pt x="3264" y="384"/>
                </a:lnTo>
                <a:lnTo>
                  <a:pt x="2976" y="336"/>
                </a:lnTo>
                <a:lnTo>
                  <a:pt x="1584" y="0"/>
                </a:lnTo>
                <a:lnTo>
                  <a:pt x="528" y="480"/>
                </a:ln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Nsight Telservices </a:t>
            </a:r>
            <a:br>
              <a:rPr sz="4400"/>
            </a:br>
            <a:r>
              <a:rPr b="0" lang="en-US" sz="4000" spc="-1" strike="noStrike">
                <a:solidFill>
                  <a:srgbClr val="3333cc"/>
                </a:solidFill>
                <a:latin typeface="Arial Black"/>
              </a:rPr>
              <a:t>Has Chos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413000" y="4769280"/>
            <a:ext cx="499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54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7" name="Radiant-jpeg2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3886200" cy="1503360"/>
          </a:xfrm>
          <a:prstGeom prst="rect">
            <a:avLst/>
          </a:prstGeom>
          <a:ln w="0">
            <a:noFill/>
          </a:ln>
        </p:spPr>
      </p:pic>
      <p:pic>
        <p:nvPicPr>
          <p:cNvPr id="958" name="ant3" descr=""/>
          <p:cNvPicPr/>
          <p:nvPr/>
        </p:nvPicPr>
        <p:blipFill>
          <a:blip r:embed="rId2"/>
          <a:stretch/>
        </p:blipFill>
        <p:spPr>
          <a:xfrm>
            <a:off x="4724280" y="2209680"/>
            <a:ext cx="38991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mise of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om Radi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0" name="oslothumb" descr=""/>
          <p:cNvPicPr/>
          <p:nvPr/>
        </p:nvPicPr>
        <p:blipFill>
          <a:blip r:embed="rId1"/>
          <a:stretch/>
        </p:blipFill>
        <p:spPr>
          <a:xfrm>
            <a:off x="609480" y="1901880"/>
            <a:ext cx="7925040" cy="4292640"/>
          </a:xfrm>
          <a:prstGeom prst="rect">
            <a:avLst/>
          </a:prstGeom>
          <a:ln w="0">
            <a:noFill/>
          </a:ln>
        </p:spPr>
      </p:pic>
      <p:sp>
        <p:nvSpPr>
          <p:cNvPr id="961" name=""/>
          <p:cNvSpPr/>
          <p:nvPr/>
        </p:nvSpPr>
        <p:spPr>
          <a:xfrm>
            <a:off x="1625400" y="115632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entury Gothic"/>
              </a:rPr>
              <a:t>MESH</a:t>
            </a:r>
            <a:r>
              <a:rPr b="0" i="1" lang="en-GB" sz="3200" spc="-1" strike="noStrike">
                <a:solidFill>
                  <a:srgbClr val="000000"/>
                </a:solidFill>
                <a:latin typeface="Century Gothic"/>
              </a:rPr>
              <a:t>WORK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96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591640" y="4770000"/>
            <a:ext cx="376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Mesh Subscriber Nod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lightly more expens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than today’s P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Times New Roman"/>
              </a:rPr>
              <a:t>Subscriber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65200" y="30934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No costly PMP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Base S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98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508200" y="3541680"/>
            <a:ext cx="2568600" cy="730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2855520" y="3159000"/>
            <a:ext cx="2530440" cy="2916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782720" y="2390760"/>
            <a:ext cx="1111320" cy="3646440"/>
          </a:xfrm>
          <a:custGeom>
            <a:avLst/>
            <a:gdLst/>
            <a:ahLst/>
            <a:rect l="l" t="t" r="r" b="b"/>
            <a:pathLst>
              <a:path w="58" h="190">
                <a:moveTo>
                  <a:pt x="23" y="119"/>
                </a:moveTo>
                <a:lnTo>
                  <a:pt x="0" y="0"/>
                </a:lnTo>
                <a:lnTo>
                  <a:pt x="58" y="190"/>
                </a:ln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V="1">
            <a:off x="2209680" y="3581280"/>
            <a:ext cx="129564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209680" y="4648320"/>
            <a:ext cx="609840" cy="1371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1752120" y="2361960"/>
            <a:ext cx="1752840" cy="1143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3581280" y="3123720"/>
            <a:ext cx="182880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409720" y="3124080"/>
            <a:ext cx="685800" cy="10670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2285640" y="4267080"/>
            <a:ext cx="3809880" cy="381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2895480" y="4267080"/>
            <a:ext cx="3200400" cy="18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1752480" y="2362320"/>
            <a:ext cx="3657600" cy="7617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00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5410080" y="2209680"/>
            <a:ext cx="22100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PTICAL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IBER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OUTE</a:t>
            </a:r>
            <a:endParaRPr b="0" i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19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457200" y="898560"/>
            <a:ext cx="8153280" cy="70344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s Grow As Customers Sign U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23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4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25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26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7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28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29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2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33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40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42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1828800" y="2133360"/>
            <a:ext cx="121932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1371600" y="2438280"/>
            <a:ext cx="38088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124080" y="2133720"/>
            <a:ext cx="18288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5029200" y="1981080"/>
            <a:ext cx="2514600" cy="152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7467480" y="1981080"/>
            <a:ext cx="76320" cy="1752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7467480" y="3733920"/>
            <a:ext cx="304920" cy="1676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5943600" y="5410080"/>
            <a:ext cx="1752480" cy="609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2971440" y="6019920"/>
            <a:ext cx="28954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H="1">
            <a:off x="1066680" y="6019920"/>
            <a:ext cx="182880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09480" y="457200"/>
            <a:ext cx="787572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the System Grows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Be Redesigned Remote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071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tennas Remotely Mov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 TRUCK R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4" name="ant3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17552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076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078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079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0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2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85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093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095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1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Demand Grows More Capacity Is Inserted Into the Me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15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18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0880" y="2286000"/>
            <a:ext cx="1828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0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0" y="3733920"/>
            <a:ext cx="1600200" cy="2590560"/>
          </a:xfrm>
          <a:custGeom>
            <a:avLst/>
            <a:gdLst/>
            <a:ahLst/>
            <a:rect l="l" t="t" r="r" b="b"/>
            <a:pathLst>
              <a:path w="1008" h="1632">
                <a:moveTo>
                  <a:pt x="0" y="0"/>
                </a:moveTo>
                <a:lnTo>
                  <a:pt x="1008" y="528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5029200"/>
            <a:ext cx="1676160" cy="152388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432" y="0"/>
                </a:moveTo>
                <a:lnTo>
                  <a:pt x="0" y="960"/>
                </a:lnTo>
                <a:lnTo>
                  <a:pt x="720" y="960"/>
                </a:lnTo>
                <a:lnTo>
                  <a:pt x="1056" y="288"/>
                </a:lnTo>
                <a:lnTo>
                  <a:pt x="432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05120" y="2742840"/>
            <a:ext cx="3276360" cy="6858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3429000"/>
            <a:ext cx="2819520" cy="2133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3429000"/>
            <a:ext cx="1447560" cy="17524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21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23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24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7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28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30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31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38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40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144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153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09480" y="380880"/>
            <a:ext cx="7772400" cy="131292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he Mesh is Rerouted to Adjust for Customer Dem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600200" y="2209680"/>
            <a:ext cx="4724280" cy="2286000"/>
            <a:chOff x="1600200" y="2209680"/>
            <a:chExt cx="4724280" cy="2286000"/>
          </a:xfrm>
        </p:grpSpPr>
        <p:sp>
          <p:nvSpPr>
            <p:cNvPr id="1173" name=""/>
            <p:cNvSpPr/>
            <p:nvPr/>
          </p:nvSpPr>
          <p:spPr>
            <a:xfrm>
              <a:off x="1600200" y="2209680"/>
              <a:ext cx="380880" cy="3812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943600" y="4114800"/>
              <a:ext cx="380880" cy="3808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4800600" y="1905120"/>
            <a:ext cx="3124080" cy="3733560"/>
            <a:chOff x="4800600" y="1905120"/>
            <a:chExt cx="3124080" cy="3733560"/>
          </a:xfrm>
        </p:grpSpPr>
        <p:sp>
          <p:nvSpPr>
            <p:cNvPr id="1176" name=""/>
            <p:cNvSpPr/>
            <p:nvPr/>
          </p:nvSpPr>
          <p:spPr>
            <a:xfrm>
              <a:off x="4800600" y="190512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543800" y="5181480"/>
              <a:ext cx="380880" cy="45720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8" name="" descr=""/>
          <p:cNvPicPr/>
          <p:nvPr/>
        </p:nvPicPr>
        <p:blipFill>
          <a:blip r:embed="rId1"/>
          <a:stretch/>
        </p:blipFill>
        <p:spPr>
          <a:xfrm>
            <a:off x="6958080" y="604692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179" name=""/>
          <p:cNvSpPr/>
          <p:nvPr/>
        </p:nvSpPr>
        <p:spPr>
          <a:xfrm>
            <a:off x="-19080" y="1001880"/>
            <a:ext cx="403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1054080" y="2025720"/>
            <a:ext cx="6670800" cy="4241520"/>
            <a:chOff x="1054080" y="2025720"/>
            <a:chExt cx="6670800" cy="4241520"/>
          </a:xfrm>
        </p:grpSpPr>
        <p:grpSp>
          <p:nvGrpSpPr>
            <p:cNvPr id="1181" name=""/>
            <p:cNvGrpSpPr/>
            <p:nvPr/>
          </p:nvGrpSpPr>
          <p:grpSpPr>
            <a:xfrm>
              <a:off x="1054080" y="2025720"/>
              <a:ext cx="6670800" cy="4241520"/>
              <a:chOff x="1054080" y="2025720"/>
              <a:chExt cx="6670800" cy="4241520"/>
            </a:xfrm>
          </p:grpSpPr>
          <p:sp>
            <p:nvSpPr>
              <p:cNvPr id="1182" name=""/>
              <p:cNvSpPr/>
              <p:nvPr/>
            </p:nvSpPr>
            <p:spPr>
              <a:xfrm>
                <a:off x="3508200" y="3541680"/>
                <a:ext cx="2568600" cy="73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3" name=""/>
              <p:cNvGrpSpPr/>
              <p:nvPr/>
            </p:nvGrpSpPr>
            <p:grpSpPr>
              <a:xfrm>
                <a:off x="1054080" y="2025720"/>
                <a:ext cx="6670800" cy="4241520"/>
                <a:chOff x="1054080" y="2025720"/>
                <a:chExt cx="6670800" cy="4241520"/>
              </a:xfrm>
            </p:grpSpPr>
            <p:sp>
              <p:nvSpPr>
                <p:cNvPr id="1184" name=""/>
                <p:cNvSpPr/>
                <p:nvPr/>
              </p:nvSpPr>
              <p:spPr>
                <a:xfrm>
                  <a:off x="5424480" y="3159000"/>
                  <a:ext cx="2300400" cy="2244600"/>
                </a:xfrm>
                <a:custGeom>
                  <a:avLst/>
                  <a:gdLst/>
                  <a:ahLst/>
                  <a:rect l="l" t="t" r="r" b="b"/>
                  <a:pathLst>
                    <a:path w="120" h="117">
                      <a:moveTo>
                        <a:pt x="36" y="58"/>
                      </a:moveTo>
                      <a:lnTo>
                        <a:pt x="120" y="11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5" name=""/>
                <p:cNvGrpSpPr/>
                <p:nvPr/>
              </p:nvGrpSpPr>
              <p:grpSpPr>
                <a:xfrm>
                  <a:off x="1054080" y="2025720"/>
                  <a:ext cx="6442200" cy="4241520"/>
                  <a:chOff x="1054080" y="2025720"/>
                  <a:chExt cx="6442200" cy="4241520"/>
                </a:xfrm>
              </p:grpSpPr>
              <p:sp>
                <p:nvSpPr>
                  <p:cNvPr id="1186" name=""/>
                  <p:cNvSpPr/>
                  <p:nvPr/>
                </p:nvSpPr>
                <p:spPr>
                  <a:xfrm flipH="1">
                    <a:off x="2855520" y="3159000"/>
                    <a:ext cx="2530440" cy="2916360"/>
                  </a:xfrm>
                  <a:prstGeom prst="line">
                    <a:avLst/>
                  </a:prstGeom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3508200" y="3159000"/>
                    <a:ext cx="2587680" cy="29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52">
                        <a:moveTo>
                          <a:pt x="98" y="0"/>
                        </a:moveTo>
                        <a:lnTo>
                          <a:pt x="0" y="87"/>
                        </a:lnTo>
                        <a:lnTo>
                          <a:pt x="126" y="152"/>
                        </a:lnTo>
                        <a:lnTo>
                          <a:pt x="135" y="57"/>
                        </a:lnTo>
                      </a:path>
                    </a:pathLst>
                  </a:custGeom>
                  <a:noFill/>
                  <a:ln w="1908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88" name=""/>
                  <p:cNvGrpSpPr/>
                  <p:nvPr/>
                </p:nvGrpSpPr>
                <p:grpSpPr>
                  <a:xfrm>
                    <a:off x="1054080" y="2025720"/>
                    <a:ext cx="6442200" cy="4241520"/>
                    <a:chOff x="1054080" y="2025720"/>
                    <a:chExt cx="6442200" cy="4241520"/>
                  </a:xfrm>
                </p:grpSpPr>
                <p:sp>
                  <p:nvSpPr>
                    <p:cNvPr id="1189" name=""/>
                    <p:cNvSpPr/>
                    <p:nvPr/>
                  </p:nvSpPr>
                  <p:spPr>
                    <a:xfrm>
                      <a:off x="1341360" y="4021200"/>
                      <a:ext cx="2090880" cy="86364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>
                      <a:off x="1360440" y="3579840"/>
                      <a:ext cx="3527640" cy="249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4" h="130">
                          <a:moveTo>
                            <a:pt x="0" y="25"/>
                          </a:moveTo>
                          <a:lnTo>
                            <a:pt x="77" y="130"/>
                          </a:lnTo>
                          <a:lnTo>
                            <a:pt x="184" y="83"/>
                          </a:lnTo>
                          <a:lnTo>
                            <a:pt x="113" y="0"/>
                          </a:lnTo>
                          <a:lnTo>
                            <a:pt x="44" y="5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>
                      <a:off x="4888080" y="2122560"/>
                      <a:ext cx="2549520" cy="3051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" h="159">
                          <a:moveTo>
                            <a:pt x="3" y="0"/>
                          </a:moveTo>
                          <a:lnTo>
                            <a:pt x="133" y="86"/>
                          </a:lnTo>
                          <a:lnTo>
                            <a:pt x="0" y="159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>
                      <a:off x="3508200" y="2025720"/>
                      <a:ext cx="3988080" cy="318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166">
                          <a:moveTo>
                            <a:pt x="72" y="166"/>
                          </a:moveTo>
                          <a:lnTo>
                            <a:pt x="208" y="0"/>
                          </a:lnTo>
                          <a:lnTo>
                            <a:pt x="0" y="78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flipH="1">
                      <a:off x="3450960" y="2103480"/>
                      <a:ext cx="1514520" cy="2724120"/>
                    </a:xfrm>
                    <a:prstGeom prst="line">
                      <a:avLst/>
                    </a:prstGeom>
                    <a:ln w="1908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>
                      <a:off x="1360440" y="2141640"/>
                      <a:ext cx="4025880" cy="18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0" h="98">
                          <a:moveTo>
                            <a:pt x="0" y="98"/>
                          </a:moveTo>
                          <a:lnTo>
                            <a:pt x="89" y="0"/>
                          </a:lnTo>
                          <a:lnTo>
                            <a:pt x="210" y="53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>
                      <a:off x="1054080" y="2217600"/>
                      <a:ext cx="1994040" cy="404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11">
                          <a:moveTo>
                            <a:pt x="57" y="129"/>
                          </a:moveTo>
                          <a:lnTo>
                            <a:pt x="0" y="211"/>
                          </a:lnTo>
                          <a:lnTo>
                            <a:pt x="104" y="0"/>
                          </a:lnTo>
                        </a:path>
                      </a:pathLst>
                    </a:cu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96" name=""/>
            <p:cNvSpPr/>
            <p:nvPr/>
          </p:nvSpPr>
          <p:spPr>
            <a:xfrm>
              <a:off x="1782720" y="2390760"/>
              <a:ext cx="1111320" cy="3646440"/>
            </a:xfrm>
            <a:custGeom>
              <a:avLst/>
              <a:gdLst/>
              <a:ahLst/>
              <a:rect l="l" t="t" r="r" b="b"/>
              <a:pathLst>
                <a:path w="58" h="190">
                  <a:moveTo>
                    <a:pt x="23" y="119"/>
                  </a:moveTo>
                  <a:lnTo>
                    <a:pt x="0" y="0"/>
                  </a:lnTo>
                  <a:lnTo>
                    <a:pt x="58" y="19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1073160" y="2006640"/>
            <a:ext cx="6670800" cy="4221000"/>
            <a:chOff x="1073160" y="2006640"/>
            <a:chExt cx="6670800" cy="4221000"/>
          </a:xfrm>
        </p:grpSpPr>
        <p:sp>
          <p:nvSpPr>
            <p:cNvPr id="1198" name=""/>
            <p:cNvSpPr/>
            <p:nvPr/>
          </p:nvSpPr>
          <p:spPr>
            <a:xfrm>
              <a:off x="1073160" y="2006640"/>
              <a:ext cx="6670800" cy="4221000"/>
            </a:xfrm>
            <a:custGeom>
              <a:avLst/>
              <a:gdLst/>
              <a:ahLst/>
              <a:rect l="l" t="t" r="r" b="b"/>
              <a:pathLst>
                <a:path w="348" h="220">
                  <a:moveTo>
                    <a:pt x="37" y="22"/>
                  </a:moveTo>
                  <a:lnTo>
                    <a:pt x="107" y="9"/>
                  </a:lnTo>
                  <a:lnTo>
                    <a:pt x="204" y="6"/>
                  </a:lnTo>
                  <a:lnTo>
                    <a:pt x="339" y="0"/>
                  </a:lnTo>
                  <a:lnTo>
                    <a:pt x="227" y="60"/>
                  </a:lnTo>
                  <a:lnTo>
                    <a:pt x="129" y="80"/>
                  </a:lnTo>
                  <a:lnTo>
                    <a:pt x="14" y="106"/>
                  </a:lnTo>
                  <a:lnTo>
                    <a:pt x="60" y="138"/>
                  </a:lnTo>
                  <a:lnTo>
                    <a:pt x="124" y="149"/>
                  </a:lnTo>
                  <a:lnTo>
                    <a:pt x="201" y="167"/>
                  </a:lnTo>
                  <a:lnTo>
                    <a:pt x="265" y="116"/>
                  </a:lnTo>
                  <a:lnTo>
                    <a:pt x="334" y="90"/>
                  </a:lnTo>
                  <a:lnTo>
                    <a:pt x="348" y="177"/>
                  </a:lnTo>
                  <a:lnTo>
                    <a:pt x="249" y="211"/>
                  </a:lnTo>
                  <a:lnTo>
                    <a:pt x="93" y="212"/>
                  </a:lnTo>
                  <a:lnTo>
                    <a:pt x="0" y="22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205000" y="2025720"/>
              <a:ext cx="5329440" cy="4011480"/>
            </a:xfrm>
            <a:custGeom>
              <a:avLst/>
              <a:gdLst/>
              <a:ahLst/>
              <a:rect l="l" t="t" r="r" b="b"/>
              <a:pathLst>
                <a:path w="278" h="209">
                  <a:moveTo>
                    <a:pt x="193" y="209"/>
                  </a:moveTo>
                  <a:lnTo>
                    <a:pt x="140" y="165"/>
                  </a:lnTo>
                  <a:lnTo>
                    <a:pt x="169" y="58"/>
                  </a:lnTo>
                  <a:lnTo>
                    <a:pt x="143" y="3"/>
                  </a:lnTo>
                  <a:lnTo>
                    <a:pt x="70" y="79"/>
                  </a:lnTo>
                  <a:lnTo>
                    <a:pt x="47" y="6"/>
                  </a:lnTo>
                  <a:lnTo>
                    <a:pt x="0" y="137"/>
                  </a:lnTo>
                  <a:lnTo>
                    <a:pt x="35" y="209"/>
                  </a:lnTo>
                  <a:lnTo>
                    <a:pt x="66" y="146"/>
                  </a:lnTo>
                  <a:lnTo>
                    <a:pt x="204" y="117"/>
                  </a:lnTo>
                  <a:lnTo>
                    <a:pt x="278" y="0"/>
                  </a:lnTo>
                  <a:lnTo>
                    <a:pt x="273" y="89"/>
                  </a:lnTo>
                  <a:lnTo>
                    <a:pt x="193" y="209"/>
                  </a:lnTo>
                  <a:close/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092240" y="2390760"/>
              <a:ext cx="690480" cy="3836880"/>
            </a:xfrm>
            <a:custGeom>
              <a:avLst/>
              <a:gdLst/>
              <a:ahLst/>
              <a:rect l="l" t="t" r="r" b="b"/>
              <a:pathLst>
                <a:path w="36" h="200">
                  <a:moveTo>
                    <a:pt x="36" y="0"/>
                  </a:moveTo>
                  <a:lnTo>
                    <a:pt x="14" y="88"/>
                  </a:lnTo>
                  <a:lnTo>
                    <a:pt x="0" y="200"/>
                  </a:lnTo>
                </a:path>
              </a:pathLst>
            </a:custGeom>
            <a:noFill/>
            <a:ln w="1908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1" name=""/>
          <p:cNvGrpSpPr/>
          <p:nvPr/>
        </p:nvGrpSpPr>
        <p:grpSpPr>
          <a:xfrm>
            <a:off x="1054080" y="1987560"/>
            <a:ext cx="6651720" cy="4259160"/>
            <a:chOff x="1054080" y="1987560"/>
            <a:chExt cx="6651720" cy="4259160"/>
          </a:xfrm>
        </p:grpSpPr>
        <p:sp>
          <p:nvSpPr>
            <p:cNvPr id="1202" name=""/>
            <p:cNvSpPr/>
            <p:nvPr/>
          </p:nvSpPr>
          <p:spPr>
            <a:xfrm>
              <a:off x="1073160" y="2390760"/>
              <a:ext cx="6364440" cy="3798720"/>
            </a:xfrm>
            <a:custGeom>
              <a:avLst/>
              <a:gdLst/>
              <a:ahLst/>
              <a:rect l="l" t="t" r="r" b="b"/>
              <a:pathLst>
                <a:path w="332" h="198">
                  <a:moveTo>
                    <a:pt x="332" y="72"/>
                  </a:moveTo>
                  <a:lnTo>
                    <a:pt x="228" y="40"/>
                  </a:lnTo>
                  <a:lnTo>
                    <a:pt x="58" y="119"/>
                  </a:lnTo>
                  <a:lnTo>
                    <a:pt x="253" y="191"/>
                  </a:lnTo>
                  <a:lnTo>
                    <a:pt x="228" y="40"/>
                  </a:lnTo>
                  <a:lnTo>
                    <a:pt x="37" y="2"/>
                  </a:lnTo>
                  <a:lnTo>
                    <a:pt x="126" y="127"/>
                  </a:lnTo>
                  <a:lnTo>
                    <a:pt x="0" y="198"/>
                  </a:lnTo>
                  <a:lnTo>
                    <a:pt x="128" y="60"/>
                  </a:lnTo>
                  <a:lnTo>
                    <a:pt x="36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54080" y="3522600"/>
              <a:ext cx="6651720" cy="2724120"/>
            </a:xfrm>
            <a:custGeom>
              <a:avLst/>
              <a:gdLst/>
              <a:ahLst/>
              <a:rect l="l" t="t" r="r" b="b"/>
              <a:pathLst>
                <a:path w="347" h="142">
                  <a:moveTo>
                    <a:pt x="0" y="142"/>
                  </a:moveTo>
                  <a:lnTo>
                    <a:pt x="201" y="86"/>
                  </a:lnTo>
                  <a:lnTo>
                    <a:pt x="347" y="97"/>
                  </a:lnTo>
                  <a:lnTo>
                    <a:pt x="130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451320" y="1987560"/>
              <a:ext cx="4101840" cy="4106880"/>
            </a:xfrm>
            <a:custGeom>
              <a:avLst/>
              <a:gdLst/>
              <a:ahLst/>
              <a:rect l="l" t="t" r="r" b="b"/>
              <a:pathLst>
                <a:path w="214" h="214">
                  <a:moveTo>
                    <a:pt x="0" y="147"/>
                  </a:moveTo>
                  <a:lnTo>
                    <a:pt x="214" y="0"/>
                  </a:lnTo>
                  <a:lnTo>
                    <a:pt x="127" y="214"/>
                  </a:lnTo>
                  <a:lnTo>
                    <a:pt x="78" y="8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379520" y="2179440"/>
              <a:ext cx="4735440" cy="3857760"/>
            </a:xfrm>
            <a:custGeom>
              <a:avLst/>
              <a:gdLst/>
              <a:ahLst/>
              <a:rect l="l" t="t" r="r" b="b"/>
              <a:pathLst>
                <a:path w="247" h="201">
                  <a:moveTo>
                    <a:pt x="0" y="97"/>
                  </a:moveTo>
                  <a:lnTo>
                    <a:pt x="247" y="109"/>
                  </a:lnTo>
                  <a:lnTo>
                    <a:pt x="88" y="0"/>
                  </a:lnTo>
                  <a:lnTo>
                    <a:pt x="78" y="201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067200" y="2160360"/>
              <a:ext cx="3780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1399680" y="2122560"/>
              <a:ext cx="3544920" cy="189864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565440" y="3522600"/>
              <a:ext cx="3890880" cy="24912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2894040" y="2025360"/>
              <a:ext cx="4640400" cy="401148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0" name=""/>
          <p:cNvGrpSpPr/>
          <p:nvPr/>
        </p:nvGrpSpPr>
        <p:grpSpPr>
          <a:xfrm>
            <a:off x="996840" y="1930320"/>
            <a:ext cx="6824880" cy="4394160"/>
            <a:chOff x="996840" y="1930320"/>
            <a:chExt cx="6824880" cy="4394160"/>
          </a:xfrm>
        </p:grpSpPr>
        <p:sp>
          <p:nvSpPr>
            <p:cNvPr id="1211" name=""/>
            <p:cNvSpPr/>
            <p:nvPr/>
          </p:nvSpPr>
          <p:spPr>
            <a:xfrm>
              <a:off x="1706400" y="2333520"/>
              <a:ext cx="15264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009960" y="2103480"/>
              <a:ext cx="152280" cy="1522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489480" y="3465360"/>
              <a:ext cx="1522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56320" y="19303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348160" y="306216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06800" y="204480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39000" y="4174920"/>
              <a:ext cx="1522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146320" y="459720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830840" y="511488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648560" y="5307120"/>
              <a:ext cx="17316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96840" y="6151320"/>
              <a:ext cx="15408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98640" y="5978520"/>
              <a:ext cx="15408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361280" y="3676680"/>
              <a:ext cx="154080" cy="15372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08600" y="595944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392640" y="4770360"/>
              <a:ext cx="153720" cy="17316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303200" y="3963960"/>
              <a:ext cx="173160" cy="154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785880" y="6046920"/>
            <a:ext cx="69390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2"/>
          <a:stretch/>
        </p:blipFill>
        <p:spPr>
          <a:xfrm>
            <a:off x="3962520" y="2220840"/>
            <a:ext cx="612720" cy="1371600"/>
          </a:xfrm>
          <a:prstGeom prst="rect">
            <a:avLst/>
          </a:prstGeom>
          <a:ln w="0">
            <a:noFill/>
          </a:ln>
        </p:spPr>
      </p:pic>
      <p:sp>
        <p:nvSpPr>
          <p:cNvPr id="1230" name=""/>
          <p:cNvSpPr/>
          <p:nvPr/>
        </p:nvSpPr>
        <p:spPr>
          <a:xfrm>
            <a:off x="76320" y="1828800"/>
            <a:ext cx="7657920" cy="3543480"/>
          </a:xfrm>
          <a:custGeom>
            <a:avLst/>
            <a:gdLst/>
            <a:ahLst/>
            <a:rect l="l" t="t" r="r" b="b"/>
            <a:pathLst>
              <a:path w="4824" h="2232">
                <a:moveTo>
                  <a:pt x="0" y="336"/>
                </a:moveTo>
                <a:cubicBezTo>
                  <a:pt x="216" y="356"/>
                  <a:pt x="532" y="408"/>
                  <a:pt x="1056" y="384"/>
                </a:cubicBezTo>
                <a:cubicBezTo>
                  <a:pt x="1580" y="360"/>
                  <a:pt x="2688" y="0"/>
                  <a:pt x="3144" y="192"/>
                </a:cubicBezTo>
                <a:cubicBezTo>
                  <a:pt x="3600" y="384"/>
                  <a:pt x="3512" y="1196"/>
                  <a:pt x="3792" y="1536"/>
                </a:cubicBezTo>
                <a:cubicBezTo>
                  <a:pt x="4072" y="1876"/>
                  <a:pt x="4609" y="2087"/>
                  <a:pt x="4824" y="2232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rmesh" descr=""/>
          <p:cNvPicPr/>
          <p:nvPr/>
        </p:nvPicPr>
        <p:blipFill>
          <a:blip r:embed="rId1"/>
          <a:stretch/>
        </p:blipFill>
        <p:spPr>
          <a:xfrm>
            <a:off x="380880" y="1865160"/>
            <a:ext cx="8153640" cy="4687920"/>
          </a:xfrm>
          <a:prstGeom prst="rect">
            <a:avLst/>
          </a:prstGeom>
          <a:ln w="0">
            <a:noFill/>
          </a:ln>
        </p:spPr>
      </p:pic>
      <p:sp>
        <p:nvSpPr>
          <p:cNvPr id="1232" name=""/>
          <p:cNvSpPr/>
          <p:nvPr/>
        </p:nvSpPr>
        <p:spPr>
          <a:xfrm>
            <a:off x="1295280" y="264636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‘Line of Sigh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295280" y="3352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1295280" y="411480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- 9’s  Reliability  - ‘QoS’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95280" y="48769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t Rou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ise of Mesh LM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295280" y="1905120"/>
            <a:ext cx="54104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ustomer R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8" name="" descr=""/>
          <p:cNvPicPr/>
          <p:nvPr/>
        </p:nvPicPr>
        <p:blipFill>
          <a:blip r:embed="rId2"/>
          <a:stretch/>
        </p:blipFill>
        <p:spPr>
          <a:xfrm>
            <a:off x="10667880" y="5257800"/>
            <a:ext cx="2243160" cy="86364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1295280" y="5638680"/>
            <a:ext cx="5410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st Low Cost Install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609480" y="2209680"/>
            <a:ext cx="762012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d Much Mo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1" name="green%20bay%20by%20air" descr=""/>
          <p:cNvPicPr/>
          <p:nvPr/>
        </p:nvPicPr>
        <p:blipFill>
          <a:blip r:embed="rId1"/>
          <a:stretch/>
        </p:blipFill>
        <p:spPr>
          <a:xfrm>
            <a:off x="-914400" y="0"/>
            <a:ext cx="10439280" cy="695628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 txBox="1"/>
          <p:nvPr/>
        </p:nvSpPr>
        <p:spPr>
          <a:xfrm>
            <a:off x="838080" y="476280"/>
            <a:ext cx="7620120" cy="1352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 Beleive MeshWork's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or Nsigh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3" name="cowclose" descr=""/>
          <p:cNvPicPr/>
          <p:nvPr/>
        </p:nvPicPr>
        <p:blipFill>
          <a:blip r:embed="rId1"/>
          <a:stretch/>
        </p:blipFill>
        <p:spPr>
          <a:xfrm>
            <a:off x="488880" y="0"/>
            <a:ext cx="4159440" cy="601992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4683600" y="532800"/>
            <a:ext cx="415368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from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Heartl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Wisconsin, US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America’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Script MT Bold"/>
              </a:rPr>
              <a:t>Dairy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196360" y="6018840"/>
            <a:ext cx="40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’s e-mail - ceo@netnet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REENBAY1" descr=""/>
          <p:cNvPicPr/>
          <p:nvPr/>
        </p:nvPicPr>
        <p:blipFill>
          <a:blip r:embed="rId1"/>
          <a:stretch/>
        </p:blipFill>
        <p:spPr>
          <a:xfrm>
            <a:off x="2286000" y="1924200"/>
            <a:ext cx="6249960" cy="4687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2286000"/>
            <a:ext cx="182880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ey do have a lot of residentia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ocke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ME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1905120"/>
            <a:ext cx="6248520" cy="3962160"/>
          </a:xfrm>
          <a:custGeom>
            <a:avLst/>
            <a:gdLst/>
            <a:ahLst/>
            <a:rect l="l" t="t" r="r" b="b"/>
            <a:pathLst>
              <a:path w="3936" h="2496">
                <a:moveTo>
                  <a:pt x="0" y="0"/>
                </a:moveTo>
                <a:lnTo>
                  <a:pt x="3936" y="0"/>
                </a:lnTo>
                <a:lnTo>
                  <a:pt x="3936" y="1584"/>
                </a:lnTo>
                <a:lnTo>
                  <a:pt x="3312" y="2496"/>
                </a:lnTo>
                <a:lnTo>
                  <a:pt x="1344" y="1536"/>
                </a:lnTo>
                <a:lnTo>
                  <a:pt x="816" y="720"/>
                </a:lnTo>
                <a:lnTo>
                  <a:pt x="480" y="1104"/>
                </a:lnTo>
                <a:lnTo>
                  <a:pt x="3" y="8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733920"/>
            <a:ext cx="1609560" cy="2590560"/>
          </a:xfrm>
          <a:custGeom>
            <a:avLst/>
            <a:gdLst/>
            <a:ahLst/>
            <a:rect l="l" t="t" r="r" b="b"/>
            <a:pathLst>
              <a:path w="1014" h="1632">
                <a:moveTo>
                  <a:pt x="0" y="0"/>
                </a:moveTo>
                <a:lnTo>
                  <a:pt x="1014" y="480"/>
                </a:lnTo>
                <a:lnTo>
                  <a:pt x="576" y="1488"/>
                </a:lnTo>
                <a:lnTo>
                  <a:pt x="192" y="1296"/>
                </a:lnTo>
                <a:lnTo>
                  <a:pt x="0" y="16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90760" y="5029200"/>
            <a:ext cx="1662120" cy="1581120"/>
          </a:xfrm>
          <a:custGeom>
            <a:avLst/>
            <a:gdLst/>
            <a:ahLst/>
            <a:rect l="l" t="t" r="r" b="b"/>
            <a:pathLst>
              <a:path w="1047" h="996">
                <a:moveTo>
                  <a:pt x="423" y="0"/>
                </a:moveTo>
                <a:lnTo>
                  <a:pt x="0" y="993"/>
                </a:lnTo>
                <a:lnTo>
                  <a:pt x="702" y="996"/>
                </a:lnTo>
                <a:lnTo>
                  <a:pt x="1047" y="288"/>
                </a:lnTo>
                <a:lnTo>
                  <a:pt x="423" y="0"/>
                </a:lnTo>
                <a:close/>
              </a:path>
            </a:pathLst>
          </a:cu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1320" y="3048120"/>
            <a:ext cx="6253200" cy="3581280"/>
          </a:xfrm>
          <a:custGeom>
            <a:avLst/>
            <a:gdLst/>
            <a:ahLst/>
            <a:rect l="l" t="t" r="r" b="b"/>
            <a:pathLst>
              <a:path w="3939" h="2256">
                <a:moveTo>
                  <a:pt x="9" y="120"/>
                </a:moveTo>
                <a:lnTo>
                  <a:pt x="483" y="384"/>
                </a:lnTo>
                <a:lnTo>
                  <a:pt x="819" y="0"/>
                </a:lnTo>
                <a:lnTo>
                  <a:pt x="1347" y="816"/>
                </a:lnTo>
                <a:lnTo>
                  <a:pt x="3315" y="1776"/>
                </a:lnTo>
                <a:lnTo>
                  <a:pt x="3939" y="864"/>
                </a:lnTo>
                <a:lnTo>
                  <a:pt x="3939" y="2256"/>
                </a:lnTo>
                <a:lnTo>
                  <a:pt x="1278" y="2241"/>
                </a:lnTo>
                <a:lnTo>
                  <a:pt x="1683" y="1536"/>
                </a:lnTo>
                <a:lnTo>
                  <a:pt x="1059" y="1248"/>
                </a:lnTo>
                <a:lnTo>
                  <a:pt x="633" y="2241"/>
                </a:lnTo>
                <a:lnTo>
                  <a:pt x="0" y="2241"/>
                </a:lnTo>
                <a:lnTo>
                  <a:pt x="3" y="2064"/>
                </a:lnTo>
                <a:lnTo>
                  <a:pt x="195" y="1728"/>
                </a:lnTo>
                <a:lnTo>
                  <a:pt x="579" y="1920"/>
                </a:lnTo>
                <a:lnTo>
                  <a:pt x="1011" y="912"/>
                </a:lnTo>
                <a:lnTo>
                  <a:pt x="3" y="432"/>
                </a:lnTo>
                <a:lnTo>
                  <a:pt x="9" y="120"/>
                </a:ln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752480" y="4038480"/>
            <a:ext cx="1752840" cy="990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4952880"/>
            <a:ext cx="4191120" cy="13716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2286000"/>
            <a:ext cx="1600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ot very many tall buil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ellcom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6324480" cy="50590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ES A TIER 2 - 3 CITY LOOK LIK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orporate" descr=""/>
          <p:cNvPicPr/>
          <p:nvPr/>
        </p:nvPicPr>
        <p:blipFill>
          <a:blip r:embed="rId2"/>
          <a:stretch/>
        </p:blipFill>
        <p:spPr>
          <a:xfrm>
            <a:off x="1600200" y="2243160"/>
            <a:ext cx="4343400" cy="3697200"/>
          </a:xfrm>
          <a:prstGeom prst="rect">
            <a:avLst/>
          </a:prstGeom>
          <a:ln w="0">
            <a:noFill/>
          </a:ln>
        </p:spPr>
      </p:pic>
      <p:pic>
        <p:nvPicPr>
          <p:cNvPr id="82" name="oldhouse2" descr=""/>
          <p:cNvPicPr/>
          <p:nvPr/>
        </p:nvPicPr>
        <p:blipFill>
          <a:blip r:embed="rId3"/>
          <a:stretch/>
        </p:blipFill>
        <p:spPr>
          <a:xfrm>
            <a:off x="4572000" y="1981080"/>
            <a:ext cx="3200400" cy="3019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43400" y="1676520"/>
            <a:ext cx="2133720" cy="36576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9880" y="2895480"/>
            <a:ext cx="325764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7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rees block LMD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209680"/>
            <a:ext cx="129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st are one and two stories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 Blind Spo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dia3" descr=""/>
          <p:cNvPicPr/>
          <p:nvPr/>
        </p:nvPicPr>
        <p:blipFill>
          <a:blip r:embed="rId1"/>
          <a:stretch/>
        </p:blipFill>
        <p:spPr>
          <a:xfrm>
            <a:off x="533520" y="1911240"/>
            <a:ext cx="807696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E LOVE OUR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green%20bay%20section%20air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6400800" cy="4647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09680"/>
            <a:ext cx="167652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mall towns   love       our     </a:t>
            </a:r>
            <a:r>
              <a:rPr b="1" i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d we have lots of trees in Wiscons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5:29:58Z</dcterms:created>
  <dc:creator>Cellcom</dc:creator>
  <dc:description/>
  <dc:language>en-US</dc:language>
  <cp:lastModifiedBy>Cellcom</cp:lastModifiedBy>
  <dcterms:modified xsi:type="dcterms:W3CDTF">2002-02-06T13:52:17Z</dcterms:modified>
  <cp:revision>7</cp:revision>
  <dc:subject/>
  <dc:title>No Slide Title</dc:title>
</cp:coreProperties>
</file>