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44EB-4197-44BA-A5F6-A4C1ECAFD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B45F-3C9C-4A35-936E-37FD1660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137A-1F65-432C-BB30-C911A36CD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FEB4-30BA-433F-A114-B54ECC2B7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6569-42A0-4B78-BE88-E6BDEEE8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8554-99F8-4D0B-8EF0-5036C7FB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315B-8043-4571-934D-A2071268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73EA-1F49-46E6-B6AB-7D63517B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3DED-2B4D-43A5-8E2C-75B75A31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9860-3D21-4B69-BDEE-12167D71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34B5-B999-470A-80E8-D7C8DC43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2806-1E94-4FCB-9FAE-24B689EE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96B3-32CA-42F8-B6C3-6958B8615C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2"/>
          <a:stretch/>
        </p:blipFill>
        <p:spPr>
          <a:xfrm>
            <a:off x="3086280" y="6248520"/>
            <a:ext cx="2962080" cy="45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3000" y="19051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ecurity in Wireless Network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Licensed Frequency Product (con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DES- based encryption solu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 70,000,000,000,000,000 (seventy quadrillion) possible keys of 56 b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 key by ti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ndom key cre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ique set of keys per lin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Issues Encountered by airBand Custome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exclusive to wireless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ruses or Wor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romised Serv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hancements to Customer Securit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d-to-End Securit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F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P Layer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rus Scan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inue to work with vendors to keep security enhancements on the roadma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ducate the customer to be security conscio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U.S. computer systems are increasingly vulnerable to cyber attacks, partly because companies are not implementing security measures already available”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Experts estimate U.S. corporations spent about $12.3 billion to clean up damage from computer viruses in 2001. Some predict viruses and worms could cause even more damage in 2002”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Source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Computer Science and Telecommunications Boar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"Cybersecurity Today and Tomorrow: Pay Now or Pay Later“  January 200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Band network over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concerns of wireless network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features of different radios in the unlicensed and licensed frequenc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issues airBand has encounter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options to improve customers network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irBand Network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newnetdias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486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Concer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rised Dat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vesdropp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ruption of Servi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rruption / Loss of Dat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ysical Site Secur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hysical Site Securit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ured Building Ac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tricted Roof Acces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ured Facilit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quipment Securit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ked Cabine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ployee Identification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Unlicensed Produc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rambl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rietary Air Interface (Non- Standardized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ynamic Security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Unlicensed Products (con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 Sequence Spread Spectrum (DSSS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stomer-specific Management / Configur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cryption keys for secret access password fea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curity Features of Licensed Frequency Produc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w transmission pow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rrow antenna be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k I.D. passwor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20:42:33Z</dcterms:created>
  <dc:creator>Amy</dc:creator>
  <dc:description/>
  <dc:language>en-US</dc:language>
  <cp:lastModifiedBy>mbinder</cp:lastModifiedBy>
  <dcterms:modified xsi:type="dcterms:W3CDTF">2002-02-08T19:27:19Z</dcterms:modified>
  <cp:revision>37</cp:revision>
  <dc:subject/>
  <dc:title>The Challenges of Differentiating Wireless Services </dc:title>
</cp:coreProperties>
</file>