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F4140-315D-4BFB-B027-00850CDDB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A1108-28FC-411B-940E-93CA4E9ED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A83D-C40E-4041-B222-1A1208B41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659BB-8186-4D95-AF56-F661659B37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A9B44-39CC-4737-A3B9-2BFBE3F195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66C2B-19D5-4B7A-985D-3B28F7004E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7902E-F7D3-43BD-8DEE-4B30ABDB89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58275-F19E-4863-9DBA-93CAEB6DA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6476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94F17-F90C-4529-A871-D5D37E30E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693C3-C71B-4622-ABBE-5F63B32A5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BFC32-4126-431D-9114-63E131069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DB21-7B85-4EF5-86B5-35CDB947F6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A5E3-2016-4137-93DE-4FC53E4AC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447920"/>
            <a:ext cx="7391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yth of the Ubiquitous $0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oor Install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Malik Audeh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of Wireless Syste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ik.audeh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13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5486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s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equaliz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-domain equal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recovery from inevitable deep f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modulation and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of RF and modem at C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eceive diversity when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y not necessary in al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70DCE-C4FB-46FD-8E47-3A03F114CD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638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rther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oor installation where link budget al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e to standards-based IEEE 802.16a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orous IEEE process, no single-vendor architectur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baseband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RF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05F04-C8A1-43C0-97E0-BB25C995B4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ervice tiers improve operator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 to serve ITFS licensees for more efficient spectrum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ed user         no streaming, no mult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560376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FD547-97A7-4782-AA4F-7FB1082D0C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715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G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ally Delayed 3G services are arriving with data as an add-on to v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-speed, streaming data may have unknown effects to voice-based protoco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MA self-interference may have unknown effect on scal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deoff processing gain (robustness) for capa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96F2C-A688-4990-8355-9AB68AE0BB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867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son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7160" y="1905120"/>
          <a:ext cx="87184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905120"/>
                    <a:ext cx="87184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021F-553D-4FBE-880B-071998183F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5791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’ goals are 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, economical deployment strategy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complete system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learning curve of unproven technologies that have not even been depl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 a second-generation system that is founded on a reliable, scalable, globally deployed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increases probability of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94876-38EE-4944-BD9C-AFAFBDF72C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6120" y="914040"/>
            <a:ext cx="5459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 demand complete and economic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to meet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4F758-5CE3-4936-9E4C-9DD6738E8F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73915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y Requirements for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inst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S, 90%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-cost CPE ($50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alled c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E280D-1F13-4C62-92EF-184445FF76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543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Install is a System-Wide 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oice of $0 install affects virtually every architectural system dec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ha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in Load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05E89-3919-4A6F-AB4B-6DDCCCF03B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0 Install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ssibl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mforming, complex phased array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D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modula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O, multi-user 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$0 install is technically possible, but is only relevant if the product can be economically deployed to consumers and businesses on a timely basis to maximize market pene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C4844-849D-402C-B73C-D63D309ADC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our Industry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OFD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yCD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antenn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roduct fits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DD74-8769-4DFD-B4BE-F6F222A5A5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loy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of DSL and cable modem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+ years beh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not yet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wed build-as-you-grow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entir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-as-you-grow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D7888-DE28-414E-ABED-A850F70D21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wth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965240"/>
            <a:ext cx="3610080" cy="3535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94640" y="3666960"/>
            <a:ext cx="60120" cy="590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010280" y="2687760"/>
            <a:ext cx="687600" cy="687240"/>
            <a:chOff x="7010280" y="2687760"/>
            <a:chExt cx="687600" cy="687240"/>
          </a:xfrm>
        </p:grpSpPr>
        <p:sp>
          <p:nvSpPr>
            <p:cNvPr id="58" name=""/>
            <p:cNvSpPr/>
            <p:nvPr/>
          </p:nvSpPr>
          <p:spPr>
            <a:xfrm>
              <a:off x="7010280" y="2687760"/>
              <a:ext cx="68760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46520" y="302724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483320" y="2309760"/>
            <a:ext cx="687600" cy="687600"/>
            <a:chOff x="7483320" y="2309760"/>
            <a:chExt cx="687600" cy="687600"/>
          </a:xfrm>
        </p:grpSpPr>
        <p:sp>
          <p:nvSpPr>
            <p:cNvPr id="61" name=""/>
            <p:cNvSpPr/>
            <p:nvPr/>
          </p:nvSpPr>
          <p:spPr>
            <a:xfrm>
              <a:off x="7483320" y="230976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19560" y="26496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389560" y="3195720"/>
            <a:ext cx="687240" cy="687240"/>
            <a:chOff x="5389560" y="3195720"/>
            <a:chExt cx="687240" cy="687240"/>
          </a:xfrm>
        </p:grpSpPr>
        <p:sp>
          <p:nvSpPr>
            <p:cNvPr id="64" name=""/>
            <p:cNvSpPr/>
            <p:nvPr/>
          </p:nvSpPr>
          <p:spPr>
            <a:xfrm>
              <a:off x="5389560" y="319572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25800" y="35352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800760" y="4444920"/>
            <a:ext cx="687600" cy="687600"/>
            <a:chOff x="6800760" y="4444920"/>
            <a:chExt cx="687600" cy="687600"/>
          </a:xfrm>
        </p:grpSpPr>
        <p:sp>
          <p:nvSpPr>
            <p:cNvPr id="67" name=""/>
            <p:cNvSpPr/>
            <p:nvPr/>
          </p:nvSpPr>
          <p:spPr>
            <a:xfrm>
              <a:off x="6800760" y="444492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37000" y="47847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593120" y="2922480"/>
            <a:ext cx="687240" cy="687600"/>
            <a:chOff x="7593120" y="2922480"/>
            <a:chExt cx="687240" cy="687600"/>
          </a:xfrm>
        </p:grpSpPr>
        <p:sp>
          <p:nvSpPr>
            <p:cNvPr id="70" name=""/>
            <p:cNvSpPr/>
            <p:nvPr/>
          </p:nvSpPr>
          <p:spPr>
            <a:xfrm>
              <a:off x="7593120" y="2922480"/>
              <a:ext cx="68724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29360" y="326232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156360" y="4457880"/>
            <a:ext cx="687240" cy="687240"/>
            <a:chOff x="6156360" y="4457880"/>
            <a:chExt cx="687240" cy="687240"/>
          </a:xfrm>
        </p:grpSpPr>
        <p:sp>
          <p:nvSpPr>
            <p:cNvPr id="73" name=""/>
            <p:cNvSpPr/>
            <p:nvPr/>
          </p:nvSpPr>
          <p:spPr>
            <a:xfrm>
              <a:off x="6156360" y="445788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92600" y="47973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38280" y="2468520"/>
            <a:ext cx="1295640" cy="1295640"/>
            <a:chOff x="2438280" y="2468520"/>
            <a:chExt cx="1295640" cy="1295640"/>
          </a:xfrm>
        </p:grpSpPr>
        <p:sp>
          <p:nvSpPr>
            <p:cNvPr id="76" name=""/>
            <p:cNvSpPr/>
            <p:nvPr/>
          </p:nvSpPr>
          <p:spPr>
            <a:xfrm>
              <a:off x="340812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0812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0812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0812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6548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6548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6548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2320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2320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2320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2320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8056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8056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8056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3828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3828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3828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3828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20320" y="3104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63320" y="26204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6836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5360" y="3426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8380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8380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25360" y="2780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6836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87400" y="5773680"/>
            <a:ext cx="3181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 to Market, Limited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35000"/>
            <a:ext cx="3610080" cy="3535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97080" y="5773680"/>
            <a:ext cx="401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 Market Coverage, Hotspot follow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D035-1B30-4085-8993-F48428B7CA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6933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ving Ahead from a Solid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0,000 CPE proven on one base station, over 2,000 CPE proven on a single 6-MHz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Es deployed 1-35 miles from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high throughput under l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n disaster re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function despite interference and human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50,000 lines of continually enhanced field-hardened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d architecture for stronger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support of multiple backhaul options (many TDMA protocols preclude RF backhau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9E8C1-F1E2-4BD7-91C7-099E21233C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6:26:27Z</dcterms:created>
  <dc:creator>audeh</dc:creator>
  <dc:description/>
  <dc:language>en-US</dc:language>
  <cp:lastModifiedBy>Karen Crain</cp:lastModifiedBy>
  <cp:lastPrinted>2002-02-08T19:22:59Z</cp:lastPrinted>
  <dcterms:modified xsi:type="dcterms:W3CDTF">2002-02-10T20:28:58Z</dcterms:modified>
  <cp:revision>46</cp:revision>
  <dc:subject/>
  <dc:title>What does the industry need?</dc:title>
</cp:coreProperties>
</file>