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99840" y="1143000"/>
            <a:ext cx="6629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94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2232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6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94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2232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99840" y="1143000"/>
            <a:ext cx="6629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497640" y="6324480"/>
            <a:ext cx="238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 </a:t>
            </a:r>
            <a:fld id="{6F0E154C-EFD6-4C4E-ADBF-6C59463245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324480"/>
            <a:ext cx="411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Arial"/>
              </a:rPr>
              <a:t>COPYRIGHT 2002   RICOCHET NETWORKS, IN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457200" y="103320"/>
            <a:ext cx="1447920" cy="3650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4560" y="0"/>
            <a:ext cx="6859440" cy="4572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 flipV="1">
            <a:off x="2286000" y="-360"/>
            <a:ext cx="0" cy="76212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0" y="762120"/>
            <a:ext cx="59436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666880" y="2286000"/>
            <a:ext cx="3124440" cy="787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351600" y="316404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Unicode MS"/>
              </a:rPr>
              <a:t>HIGH-SPEED WIRE-FREE INTERNET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Arial Unicode MS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3716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411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hn Griebling, CT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bruary 14, 200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cochet 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 spent $1.3 B to develop technology, deploy network in 21 major markets and obtain 51,000 custom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 filed bankruptcy and shut down network in August 2001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icochet Networks, a subsidiary of Aerie Networks, Inc. purchased all intellectual property and certain assets of the Ricoche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 Unicode MS"/>
              </a:rPr>
              <a:t>TM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Micro Cellular Data Network for $8.25 MM in November 2001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"/>
          <p:cNvSpPr/>
          <p:nvPr/>
        </p:nvSpPr>
        <p:spPr>
          <a:xfrm>
            <a:off x="417672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1004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Components of Success (and Failur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4" name="pole" descr="[Ricochet Cellular Network]"/>
          <p:cNvPicPr/>
          <p:nvPr/>
        </p:nvPicPr>
        <p:blipFill>
          <a:blip r:embed="rId2"/>
          <a:stretch/>
        </p:blipFill>
        <p:spPr>
          <a:xfrm>
            <a:off x="4419720" y="3971880"/>
            <a:ext cx="4114800" cy="2295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450320" y="3657600"/>
            <a:ext cx="35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 Unicode MS"/>
              </a:rPr>
              <a:t>Ricochet  Micro Cellular Data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’s strength was technology development and engineering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engineer existing network infrastructure and systems for more streamlined operation, provisioning and customer servic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pitalize on technology development to expand product offering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 upgrades to improve throughput (2X and beyond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odem upgrades to provide hybrid use capabilities: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icochet/802.11 x; Ricochet/GPRS; Ricochet/CDPD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odem chipset for embedded application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icochet broadband gateway (RBG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629400" y="4876560"/>
            <a:ext cx="2212920" cy="1339560"/>
            <a:chOff x="6629400" y="4876560"/>
            <a:chExt cx="2212920" cy="1339560"/>
          </a:xfrm>
        </p:grpSpPr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6629400" y="5257800"/>
              <a:ext cx="2212920" cy="95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flipV="1">
              <a:off x="7260840" y="4876560"/>
              <a:ext cx="593640" cy="55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48440" y="5516280"/>
              <a:ext cx="439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icoch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CMCI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de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50800" y="5538600"/>
              <a:ext cx="4230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802.11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P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engineer operational, pricing and distribution model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arget deployment to most attractive area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estore service quickly to select market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xpand to markets underserved by broadband provider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public/private partnerships to lower infrastructure cost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deploy idle capital assets into revenue generating partnership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tablish foundation for long term,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 scalable business growth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build customer value proposi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position Ricochet bran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price service to end us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and sell through multiple distribution channel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everage public/private partners with municipal and utility network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trong PR and co-op marketing progra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477120" y="4343400"/>
            <a:ext cx="2133360" cy="1900080"/>
            <a:chOff x="6477120" y="4343400"/>
            <a:chExt cx="2133360" cy="1900080"/>
          </a:xfrm>
        </p:grpSpPr>
        <p:sp>
          <p:nvSpPr>
            <p:cNvPr id="108" name=""/>
            <p:cNvSpPr/>
            <p:nvPr/>
          </p:nvSpPr>
          <p:spPr>
            <a:xfrm>
              <a:off x="6477120" y="4343400"/>
              <a:ext cx="2133360" cy="19000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Network Partn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Market Partn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Distribution Channe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Direct Online S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77120" y="519696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8143560" y="4736880"/>
              <a:ext cx="466560" cy="45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77120" y="552528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8143560" y="5065560"/>
              <a:ext cx="466560" cy="45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77120" y="585360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8143560" y="5393520"/>
              <a:ext cx="466560" cy="45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77080" y="4343400"/>
              <a:ext cx="1280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ffff"/>
                  </a:solidFill>
                  <a:latin typeface="Arial Unicode MS"/>
                </a:rPr>
                <a:t>ANATOMY OF A  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portunity Ahe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everage technolog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scalable operating platfor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pitalize on precise market selec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cel at marketing through oth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nnovate through partnership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reate and deliver value to users, partners and the Compan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4419720"/>
            <a:ext cx="1676520" cy="167616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15962" y="7015"/>
                </a:moveTo>
                <a:arcTo wR="-6401" hR="-6401" stAng="-2174711" swAng="-19131873"/>
                <a:lnTo>
                  <a:pt x="39" y="9879"/>
                </a:lnTo>
                <a:arcTo wR="10800" hR="10800" stAng="-10506584" swAng="19131873"/>
                <a:lnTo>
                  <a:pt x="-88" y="18782"/>
                </a:lnTo>
                <a:lnTo>
                  <a:pt x="967" y="11934"/>
                </a:lnTo>
                <a:lnTo>
                  <a:pt x="7815" y="12988"/>
                </a:lnTo>
                <a:close/>
              </a:path>
            </a:pathLst>
          </a:cu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44360" y="51055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 Unicode MS"/>
              </a:rPr>
              <a:t>hindsight is 20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22:30:21Z</dcterms:created>
  <dc:creator>Michael Roberts</dc:creator>
  <dc:description/>
  <dc:language>en-US</dc:language>
  <cp:lastModifiedBy>administrator</cp:lastModifiedBy>
  <cp:lastPrinted>2000-01-12T04:42:47Z</cp:lastPrinted>
  <dcterms:modified xsi:type="dcterms:W3CDTF">2002-02-14T15:20:39Z</dcterms:modified>
  <cp:revision>510</cp:revision>
  <dc:subject/>
  <dc:title>No Slide Title</dc:title>
</cp:coreProperties>
</file>