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png" ContentType="image/png"/>
  <Override PartName="/ppt/media/image8.png" ContentType="image/png"/>
  <Override PartName="/ppt/media/image9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91186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8356A-0125-46E5-A542-E3C8BBEEF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7240" y="609120"/>
            <a:ext cx="7769520" cy="11430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7240" y="1981080"/>
            <a:ext cx="7769520" cy="196272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7240" y="4130640"/>
            <a:ext cx="7769520" cy="196272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88E9D-CF2A-430A-BA87-C15B7789B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7240" y="609120"/>
            <a:ext cx="7769520" cy="11430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7240" y="1981080"/>
            <a:ext cx="3791520" cy="196272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840" y="1981080"/>
            <a:ext cx="3791520" cy="196272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7240" y="4130640"/>
            <a:ext cx="3791520" cy="196272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840" y="4130640"/>
            <a:ext cx="3791520" cy="196272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8CDF4-6A7F-434D-9838-C767660F5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7240" y="609120"/>
            <a:ext cx="7769520" cy="11430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7240" y="1981080"/>
            <a:ext cx="2501640" cy="196272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4520" y="1981080"/>
            <a:ext cx="2501640" cy="196272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1640" cy="196272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7240" y="4130640"/>
            <a:ext cx="2501640" cy="196272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4520" y="4130640"/>
            <a:ext cx="2501640" cy="196272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1640" cy="196272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8ADA6-3D4E-4DE4-AC74-2546D5699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9120"/>
            <a:ext cx="7769520" cy="11430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7240" y="1981080"/>
            <a:ext cx="7769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D821C-C66C-416E-8B8B-904907DAB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9120"/>
            <a:ext cx="7769520" cy="11430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81080"/>
            <a:ext cx="7769520" cy="41148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E7485-F47C-4206-A84D-1C189B1AC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7240" y="609120"/>
            <a:ext cx="7769520" cy="11430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7240" y="1981080"/>
            <a:ext cx="3791520" cy="41148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840" y="1981080"/>
            <a:ext cx="3791520" cy="41148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385FA-6429-4DFD-80EF-722F63D40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9120"/>
            <a:ext cx="7769520" cy="11430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87CD7-9ED3-4C45-8C2E-43F3A3A70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7240" y="609120"/>
            <a:ext cx="776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1AE1E-217E-42C4-BF49-EE2E4E2FD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7240" y="609120"/>
            <a:ext cx="7769520" cy="11430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7240" y="1981080"/>
            <a:ext cx="3791520" cy="196272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840" y="1981080"/>
            <a:ext cx="3791520" cy="41148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7240" y="4130640"/>
            <a:ext cx="3791520" cy="196272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B74F7-B9E3-4BE4-8A7E-94EAAE8BC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7240" y="609120"/>
            <a:ext cx="7769520" cy="11430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7240" y="1981080"/>
            <a:ext cx="3791520" cy="41148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840" y="1981080"/>
            <a:ext cx="3791520" cy="196272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840" y="4130640"/>
            <a:ext cx="3791520" cy="196272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0DA4D-9591-4E7D-B1B5-22134835A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7240" y="609120"/>
            <a:ext cx="7769520" cy="11430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7240" y="1981080"/>
            <a:ext cx="3791520" cy="196272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840" y="1981080"/>
            <a:ext cx="3791520" cy="196272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7240" y="4130640"/>
            <a:ext cx="7769520" cy="196272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43DAA-A4DC-4B72-9EE1-619EF6C7E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9120"/>
            <a:ext cx="7769520" cy="11430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81080"/>
            <a:ext cx="7769520" cy="41148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rmAutofit/>
          </a:bodyPr>
          <a:p>
            <a:pPr marL="326880" indent="-3268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1360" indent="-27468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3680" indent="-2188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3" marL="1530360" indent="-21924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4" marL="1968480" indent="-2188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5" marL="1968480" indent="-2188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6" marL="1968480" indent="-2188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72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Autofit/>
          </a:bodyPr>
          <a:lstStyle>
            <a:lvl1pPr indent="0">
              <a:buNone/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2640" y="6248520"/>
            <a:ext cx="2898720" cy="4572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Autofit/>
          </a:bodyPr>
          <a:lstStyle>
            <a:lvl1pPr indent="0" algn="ctr">
              <a:buNone/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16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Autofit/>
          </a:bodyPr>
          <a:lstStyle>
            <a:lvl1pPr indent="0" algn="r">
              <a:buNone/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fld id="{E3BC1F5A-7189-4F99-BE25-E877AE4F2C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9.wmf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6.wmf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9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9.wmf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17440" y="609480"/>
            <a:ext cx="8709120" cy="596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New%20Logo" descr=""/>
          <p:cNvPicPr/>
          <p:nvPr/>
        </p:nvPicPr>
        <p:blipFill>
          <a:blip r:embed="rId1"/>
          <a:stretch/>
        </p:blipFill>
        <p:spPr>
          <a:xfrm>
            <a:off x="228600" y="25560"/>
            <a:ext cx="1081080" cy="5378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773280" y="6620040"/>
            <a:ext cx="7448040" cy="2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851 Burlway Road, Burlingame, CA 94010; Phone: (650) 348-1190; Fax: (650) 348-1261; Email: info@swedcom.co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220560" y="130320"/>
            <a:ext cx="5782320" cy="4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DIRECTIONAL ANTENNA SELECTION AND DEPLOY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im Bryant (jbryant@swedcom.com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17400" y="2043000"/>
            <a:ext cx="7764480" cy="151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NLICENSED MULTIPOINT OPER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rategies for Reducing Interference by Effectivel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valuating and Deploying Directional Antenn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629080" y="4572000"/>
            <a:ext cx="373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ented By: Jim Bry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217440" y="609480"/>
            <a:ext cx="8709120" cy="596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6" name="New%20Logo" descr=""/>
          <p:cNvPicPr/>
          <p:nvPr/>
        </p:nvPicPr>
        <p:blipFill>
          <a:blip r:embed="rId1"/>
          <a:stretch/>
        </p:blipFill>
        <p:spPr>
          <a:xfrm>
            <a:off x="243000" y="25560"/>
            <a:ext cx="1066680" cy="53784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781200" y="6607080"/>
            <a:ext cx="7448040" cy="2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851 Burlway Road, Burlingame, CA 94010; Phone: (650) 348-1190; Fax: (650) 348-1261; Email: info@swedcom.co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06520" y="1676520"/>
            <a:ext cx="8129520" cy="99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he lowest possible signal power at the receiver will need to be high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f the actual noise floor at the base station is greater than th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ufacturer’s stated radio receive sensitivit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36400" y="130320"/>
            <a:ext cx="5782320" cy="4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DIRECTIONAL ANTENNA SELECTION AND DEPLOY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im Bryant (jbryant@swedcom.com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219320" y="4282920"/>
            <a:ext cx="674352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371600" y="4168800"/>
            <a:ext cx="0" cy="2286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813800" y="4168800"/>
            <a:ext cx="0" cy="2286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51560" y="4630680"/>
            <a:ext cx="933480" cy="7333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Transm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(30 dB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844720" y="3343320"/>
            <a:ext cx="1317600" cy="6188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Minimum</a:t>
            </a: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 P</a:t>
            </a:r>
            <a:r>
              <a:rPr b="1" lang="en-US" sz="1800" spc="-1" strike="noStrike" baseline="-25000">
                <a:solidFill>
                  <a:srgbClr val="cc3300"/>
                </a:solidFill>
                <a:latin typeface="Arial"/>
              </a:rPr>
              <a:t>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(-65 dB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228320" y="3200400"/>
            <a:ext cx="1040400" cy="7333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Recei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Threshol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(-85 dB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752480" y="4168800"/>
            <a:ext cx="0" cy="2286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027160" y="4627440"/>
            <a:ext cx="1986120" cy="520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Highest Noise Flo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(-70 dB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022560" y="4168800"/>
            <a:ext cx="0" cy="2509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884880" y="4626000"/>
            <a:ext cx="973080" cy="7333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Noi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Flo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(-90 dB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400560" y="4165560"/>
            <a:ext cx="0" cy="2286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751040" y="3952800"/>
            <a:ext cx="0" cy="152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371600" y="447372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10560" y="447372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022560" y="447372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400560" y="394020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75040" y="914400"/>
            <a:ext cx="499248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SOLATION AT THE BASE ST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698560" y="5791320"/>
            <a:ext cx="37015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70 dBm + (5 dBm) =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65 dB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217440" y="609480"/>
            <a:ext cx="8709120" cy="596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9" name="New%20Logo" descr=""/>
          <p:cNvPicPr/>
          <p:nvPr/>
        </p:nvPicPr>
        <p:blipFill>
          <a:blip r:embed="rId1"/>
          <a:stretch/>
        </p:blipFill>
        <p:spPr>
          <a:xfrm>
            <a:off x="243000" y="25560"/>
            <a:ext cx="1066680" cy="53784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781200" y="6607080"/>
            <a:ext cx="7448040" cy="2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851 Burlway Road, Burlingame, CA 94010; Phone: (650) 348-1190; Fax: (650) 348-1261; Email: info@swedcom.co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18900000">
            <a:off x="7607160" y="2520720"/>
            <a:ext cx="290520" cy="285480"/>
          </a:xfrm>
          <a:prstGeom prst="rtTriangle">
            <a:avLst/>
          </a:prstGeom>
          <a:solidFill>
            <a:srgbClr val="3333cc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080" bIns="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748640" y="2867040"/>
            <a:ext cx="0" cy="744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3" name=""/>
          <p:cNvGraphicFramePr/>
          <p:nvPr/>
        </p:nvGraphicFramePr>
        <p:xfrm>
          <a:off x="6934320" y="3398760"/>
          <a:ext cx="1643040" cy="509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3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934320" y="3398760"/>
                    <a:ext cx="1643040" cy="50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5" name=""/>
          <p:cNvSpPr/>
          <p:nvPr/>
        </p:nvSpPr>
        <p:spPr>
          <a:xfrm>
            <a:off x="5435640" y="3537000"/>
            <a:ext cx="19051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1854360" y="3535200"/>
            <a:ext cx="18158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851640" y="3357720"/>
            <a:ext cx="139608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 “L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7441560" y="3595680"/>
            <a:ext cx="6951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adio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249320" y="2300400"/>
            <a:ext cx="1042560" cy="3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Gain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28600" y="1371600"/>
            <a:ext cx="868680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the minimum value for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received signal power)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nown at the base station, the radius of your cell can be calculated by using the standard link budget formul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236400" y="130320"/>
            <a:ext cx="5782320" cy="4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DIRECTIONAL ANTENNA SELECTION AND DEPLOY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im Bryant (jbryant@swedcom.com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048120" y="801720"/>
            <a:ext cx="289548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VERAGE AR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889680" y="2338560"/>
            <a:ext cx="1752840" cy="160020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88320" y="3875040"/>
            <a:ext cx="14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e S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740280" y="3900600"/>
            <a:ext cx="207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stomer Premi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rot="18900000">
            <a:off x="1250640" y="2495160"/>
            <a:ext cx="290520" cy="285840"/>
          </a:xfrm>
          <a:prstGeom prst="rtTriangle">
            <a:avLst/>
          </a:prstGeom>
          <a:solidFill>
            <a:srgbClr val="3333cc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080" bIns="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392120" y="2841480"/>
            <a:ext cx="0" cy="744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577800" y="3373560"/>
          <a:ext cx="1643040" cy="5094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7800" y="3373560"/>
                    <a:ext cx="1643040" cy="50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0" name=""/>
          <p:cNvSpPr/>
          <p:nvPr/>
        </p:nvSpPr>
        <p:spPr>
          <a:xfrm>
            <a:off x="753840" y="3570120"/>
            <a:ext cx="13658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cess Poi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885240" y="2274840"/>
            <a:ext cx="1058040" cy="3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Gain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33520" y="2313000"/>
            <a:ext cx="1752480" cy="160020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206360" y="4648320"/>
            <a:ext cx="674388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359000" y="4533840"/>
            <a:ext cx="0" cy="2286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7800840" y="4533840"/>
            <a:ext cx="0" cy="2286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7338960" y="4957920"/>
            <a:ext cx="933480" cy="7333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Transm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(30 dB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47640" y="4981680"/>
            <a:ext cx="1409760" cy="6188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Minimum</a:t>
            </a: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 P</a:t>
            </a:r>
            <a:r>
              <a:rPr b="1" lang="en-US" sz="1800" spc="-1" strike="noStrike" baseline="-25000">
                <a:solidFill>
                  <a:srgbClr val="cc3300"/>
                </a:solidFill>
                <a:latin typeface="Arial"/>
              </a:rPr>
              <a:t>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(-65 dB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797960" y="4813200"/>
            <a:ext cx="0" cy="152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355760" y="481500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944280" y="5943600"/>
            <a:ext cx="725076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0 dBm - (-65 dBm) =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5 dBm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l gains and losses in the signal between the two radi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217440" y="609480"/>
            <a:ext cx="8709120" cy="596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2" name="New%20Logo" descr=""/>
          <p:cNvPicPr/>
          <p:nvPr/>
        </p:nvPicPr>
        <p:blipFill>
          <a:blip r:embed="rId1"/>
          <a:stretch/>
        </p:blipFill>
        <p:spPr>
          <a:xfrm>
            <a:off x="243000" y="25560"/>
            <a:ext cx="1066680" cy="537840"/>
          </a:xfrm>
          <a:prstGeom prst="rect">
            <a:avLst/>
          </a:prstGeom>
          <a:ln w="0">
            <a:noFill/>
          </a:ln>
        </p:spPr>
      </p:pic>
      <p:sp>
        <p:nvSpPr>
          <p:cNvPr id="263" name=""/>
          <p:cNvSpPr/>
          <p:nvPr/>
        </p:nvSpPr>
        <p:spPr>
          <a:xfrm>
            <a:off x="775080" y="6607080"/>
            <a:ext cx="7448040" cy="2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851 Burlway Road, Burlingame, CA 94010; Phone: (650) 348-1190; Fax: (650) 348-1261; Email: info@swedcom.co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097360" y="873000"/>
            <a:ext cx="493632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TERFERENCE CONSIDERA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443320" y="3786120"/>
            <a:ext cx="168120" cy="1500120"/>
          </a:xfrm>
          <a:prstGeom prst="rect">
            <a:avLst/>
          </a:prstGeom>
          <a:solidFill>
            <a:srgbClr val="5f5f5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443320" y="4309920"/>
            <a:ext cx="215640" cy="716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443320" y="3846600"/>
            <a:ext cx="215640" cy="71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233360" y="5286240"/>
            <a:ext cx="2538720" cy="1214640"/>
          </a:xfrm>
          <a:prstGeom prst="rect">
            <a:avLst/>
          </a:prstGeom>
          <a:solidFill>
            <a:srgbClr val="cc33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547640" y="5500800"/>
            <a:ext cx="581040" cy="71424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832120" y="5500800"/>
            <a:ext cx="579240" cy="71424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629160" y="2489040"/>
            <a:ext cx="144360" cy="3574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0840" rIns="60840" tIns="30240" bIns="302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H="1">
            <a:off x="3460680" y="2600280"/>
            <a:ext cx="146160" cy="142920"/>
          </a:xfrm>
          <a:prstGeom prst="rect">
            <a:avLst/>
          </a:prstGeom>
          <a:solidFill>
            <a:srgbClr val="c0c0c0"/>
          </a:solidFill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0840" rIns="60840" tIns="30240" bIns="302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460680" y="2600280"/>
            <a:ext cx="1461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0840" rIns="60840" tIns="30240" bIns="302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526000" y="1779480"/>
            <a:ext cx="144720" cy="3571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0840" rIns="60840" tIns="30240" bIns="302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flipH="1">
            <a:off x="5357160" y="1890720"/>
            <a:ext cx="144360" cy="142920"/>
          </a:xfrm>
          <a:prstGeom prst="rect">
            <a:avLst/>
          </a:prstGeom>
          <a:solidFill>
            <a:srgbClr val="c0c0c0"/>
          </a:solidFill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0840" rIns="60840" tIns="30240" bIns="302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5357880" y="189072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0840" rIns="60840" tIns="30240" bIns="302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 flipV="1">
            <a:off x="3782880" y="2065320"/>
            <a:ext cx="1670040" cy="5954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0840" rIns="60840" tIns="30240" bIns="30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335400" y="1600200"/>
            <a:ext cx="2468520" cy="142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0840" rIns="60840" tIns="30240" bIns="302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250520" y="2378160"/>
            <a:ext cx="328680" cy="3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1200" rIns="61200" tIns="30600" bIns="30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en-US" sz="15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855960" y="2671920"/>
            <a:ext cx="7254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60840" rIns="60840" tIns="-30240" bIns="-30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526000" y="213660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60840" rIns="60840" tIns="30240" bIns="30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31440" y="2112840"/>
            <a:ext cx="328680" cy="3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1200" rIns="61200" tIns="30600" bIns="30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en-US" sz="15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521240" y="2049480"/>
            <a:ext cx="2296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1200" rIns="61200" tIns="30600" bIns="30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977640" y="3019320"/>
            <a:ext cx="10742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1200" rIns="61200" tIns="30600" bIns="30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p Vie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373800" y="3786120"/>
            <a:ext cx="169920" cy="1500120"/>
          </a:xfrm>
          <a:prstGeom prst="rect">
            <a:avLst/>
          </a:prstGeom>
          <a:solidFill>
            <a:srgbClr val="5f5f5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373800" y="4309920"/>
            <a:ext cx="219240" cy="716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373800" y="3846600"/>
            <a:ext cx="219240" cy="71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165640" y="5286240"/>
            <a:ext cx="2540160" cy="1214640"/>
          </a:xfrm>
          <a:prstGeom prst="rect">
            <a:avLst/>
          </a:prstGeom>
          <a:solidFill>
            <a:srgbClr val="cc33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479920" y="5500800"/>
            <a:ext cx="579600" cy="71424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761160" y="5500800"/>
            <a:ext cx="581040" cy="71424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832120" y="4114800"/>
            <a:ext cx="37717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427280" y="3787920"/>
            <a:ext cx="29268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6946560" y="4087800"/>
            <a:ext cx="177732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tennas are a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me Heigh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236400" y="130320"/>
            <a:ext cx="5782320" cy="4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DIRECTIONAL ANTENNA SELECTION AND DEPLOY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im Bryant (jbryant@swedcom.com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6595920" y="3728880"/>
            <a:ext cx="152640" cy="7621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2662200" y="3733920"/>
            <a:ext cx="152280" cy="7617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217440" y="609480"/>
            <a:ext cx="8709120" cy="596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8" name="New%20Logo" descr=""/>
          <p:cNvPicPr/>
          <p:nvPr/>
        </p:nvPicPr>
        <p:blipFill>
          <a:blip r:embed="rId1"/>
          <a:stretch/>
        </p:blipFill>
        <p:spPr>
          <a:xfrm>
            <a:off x="243000" y="25560"/>
            <a:ext cx="1066680" cy="537840"/>
          </a:xfrm>
          <a:prstGeom prst="rect">
            <a:avLst/>
          </a:prstGeom>
          <a:ln w="0">
            <a:noFill/>
          </a:ln>
        </p:spPr>
      </p:pic>
      <p:sp>
        <p:nvSpPr>
          <p:cNvPr id="299" name=""/>
          <p:cNvSpPr/>
          <p:nvPr/>
        </p:nvSpPr>
        <p:spPr>
          <a:xfrm>
            <a:off x="775080" y="6607080"/>
            <a:ext cx="7448040" cy="2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851 Burlway Road, Burlingame, CA 94010; Phone: (650) 348-1190; Fax: (650) 348-1261; Email: info@swedcom.co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236400" y="130320"/>
            <a:ext cx="5782320" cy="4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DIRECTIONAL ANTENNA SELECTION AND DEPLOY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im Bryant (jbryant@swedcom.com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505960" y="819000"/>
            <a:ext cx="413172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WN TILTING AN ANTENN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828800" y="2909880"/>
            <a:ext cx="2438280" cy="900000"/>
          </a:xfrm>
          <a:custGeom>
            <a:avLst/>
            <a:gdLst/>
            <a:ahLst/>
            <a:rect l="l" t="t" r="r" b="b"/>
            <a:pathLst>
              <a:path w="2296" h="848">
                <a:moveTo>
                  <a:pt x="64" y="448"/>
                </a:moveTo>
                <a:cubicBezTo>
                  <a:pt x="128" y="360"/>
                  <a:pt x="752" y="184"/>
                  <a:pt x="976" y="112"/>
                </a:cubicBezTo>
                <a:cubicBezTo>
                  <a:pt x="1200" y="40"/>
                  <a:pt x="1288" y="32"/>
                  <a:pt x="1408" y="16"/>
                </a:cubicBezTo>
                <a:cubicBezTo>
                  <a:pt x="1528" y="0"/>
                  <a:pt x="1600" y="8"/>
                  <a:pt x="1696" y="16"/>
                </a:cubicBezTo>
                <a:cubicBezTo>
                  <a:pt x="1792" y="24"/>
                  <a:pt x="1896" y="32"/>
                  <a:pt x="1984" y="64"/>
                </a:cubicBezTo>
                <a:cubicBezTo>
                  <a:pt x="2072" y="96"/>
                  <a:pt x="2176" y="168"/>
                  <a:pt x="2224" y="208"/>
                </a:cubicBezTo>
                <a:cubicBezTo>
                  <a:pt x="2272" y="248"/>
                  <a:pt x="2264" y="256"/>
                  <a:pt x="2272" y="304"/>
                </a:cubicBezTo>
                <a:cubicBezTo>
                  <a:pt x="2280" y="352"/>
                  <a:pt x="2296" y="432"/>
                  <a:pt x="2272" y="496"/>
                </a:cubicBezTo>
                <a:cubicBezTo>
                  <a:pt x="2248" y="560"/>
                  <a:pt x="2184" y="640"/>
                  <a:pt x="2128" y="688"/>
                </a:cubicBezTo>
                <a:cubicBezTo>
                  <a:pt x="2072" y="736"/>
                  <a:pt x="2008" y="760"/>
                  <a:pt x="1936" y="784"/>
                </a:cubicBezTo>
                <a:cubicBezTo>
                  <a:pt x="1864" y="808"/>
                  <a:pt x="1776" y="824"/>
                  <a:pt x="1696" y="832"/>
                </a:cubicBezTo>
                <a:cubicBezTo>
                  <a:pt x="1616" y="840"/>
                  <a:pt x="1576" y="848"/>
                  <a:pt x="1456" y="832"/>
                </a:cubicBezTo>
                <a:cubicBezTo>
                  <a:pt x="1336" y="816"/>
                  <a:pt x="1120" y="768"/>
                  <a:pt x="976" y="736"/>
                </a:cubicBezTo>
                <a:cubicBezTo>
                  <a:pt x="832" y="704"/>
                  <a:pt x="744" y="688"/>
                  <a:pt x="592" y="640"/>
                </a:cubicBezTo>
                <a:cubicBezTo>
                  <a:pt x="440" y="592"/>
                  <a:pt x="0" y="536"/>
                  <a:pt x="64" y="448"/>
                </a:cubicBezTo>
                <a:close/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822320" y="3024360"/>
            <a:ext cx="152640" cy="7617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 rot="10800000">
            <a:off x="4794120" y="2986200"/>
            <a:ext cx="2438640" cy="900000"/>
          </a:xfrm>
          <a:custGeom>
            <a:avLst/>
            <a:gdLst/>
            <a:ahLst/>
            <a:rect l="l" t="t" r="r" b="b"/>
            <a:pathLst>
              <a:path w="2296" h="848">
                <a:moveTo>
                  <a:pt x="64" y="448"/>
                </a:moveTo>
                <a:cubicBezTo>
                  <a:pt x="128" y="360"/>
                  <a:pt x="752" y="184"/>
                  <a:pt x="976" y="112"/>
                </a:cubicBezTo>
                <a:cubicBezTo>
                  <a:pt x="1200" y="40"/>
                  <a:pt x="1288" y="32"/>
                  <a:pt x="1408" y="16"/>
                </a:cubicBezTo>
                <a:cubicBezTo>
                  <a:pt x="1528" y="0"/>
                  <a:pt x="1600" y="8"/>
                  <a:pt x="1696" y="16"/>
                </a:cubicBezTo>
                <a:cubicBezTo>
                  <a:pt x="1792" y="24"/>
                  <a:pt x="1896" y="32"/>
                  <a:pt x="1984" y="64"/>
                </a:cubicBezTo>
                <a:cubicBezTo>
                  <a:pt x="2072" y="96"/>
                  <a:pt x="2176" y="168"/>
                  <a:pt x="2224" y="208"/>
                </a:cubicBezTo>
                <a:cubicBezTo>
                  <a:pt x="2272" y="248"/>
                  <a:pt x="2264" y="256"/>
                  <a:pt x="2272" y="304"/>
                </a:cubicBezTo>
                <a:cubicBezTo>
                  <a:pt x="2280" y="352"/>
                  <a:pt x="2296" y="432"/>
                  <a:pt x="2272" y="496"/>
                </a:cubicBezTo>
                <a:cubicBezTo>
                  <a:pt x="2248" y="560"/>
                  <a:pt x="2184" y="640"/>
                  <a:pt x="2128" y="688"/>
                </a:cubicBezTo>
                <a:cubicBezTo>
                  <a:pt x="2072" y="736"/>
                  <a:pt x="2008" y="760"/>
                  <a:pt x="1936" y="784"/>
                </a:cubicBezTo>
                <a:cubicBezTo>
                  <a:pt x="1864" y="808"/>
                  <a:pt x="1776" y="824"/>
                  <a:pt x="1696" y="832"/>
                </a:cubicBezTo>
                <a:cubicBezTo>
                  <a:pt x="1616" y="840"/>
                  <a:pt x="1576" y="848"/>
                  <a:pt x="1456" y="832"/>
                </a:cubicBezTo>
                <a:cubicBezTo>
                  <a:pt x="1336" y="816"/>
                  <a:pt x="1120" y="768"/>
                  <a:pt x="976" y="736"/>
                </a:cubicBezTo>
                <a:cubicBezTo>
                  <a:pt x="832" y="704"/>
                  <a:pt x="744" y="688"/>
                  <a:pt x="592" y="640"/>
                </a:cubicBezTo>
                <a:cubicBezTo>
                  <a:pt x="440" y="592"/>
                  <a:pt x="0" y="536"/>
                  <a:pt x="64" y="448"/>
                </a:cubicBezTo>
                <a:close/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 rot="10800000">
            <a:off x="7086240" y="3003120"/>
            <a:ext cx="152280" cy="7621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981080" y="3405240"/>
            <a:ext cx="51055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00480" y="336708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4772160" y="3373560"/>
            <a:ext cx="7596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1661400" y="4591080"/>
            <a:ext cx="2594520" cy="1807560"/>
            <a:chOff x="1661400" y="4591080"/>
            <a:chExt cx="2594520" cy="1807560"/>
          </a:xfrm>
        </p:grpSpPr>
        <p:sp>
          <p:nvSpPr>
            <p:cNvPr id="310" name=""/>
            <p:cNvSpPr/>
            <p:nvPr/>
          </p:nvSpPr>
          <p:spPr>
            <a:xfrm rot="1428000">
              <a:off x="1739160" y="5044680"/>
              <a:ext cx="2438640" cy="900000"/>
            </a:xfrm>
            <a:custGeom>
              <a:avLst/>
              <a:gdLst/>
              <a:ahLst/>
              <a:rect l="l" t="t" r="r" b="b"/>
              <a:pathLst>
                <a:path w="2296" h="848">
                  <a:moveTo>
                    <a:pt x="64" y="448"/>
                  </a:moveTo>
                  <a:cubicBezTo>
                    <a:pt x="128" y="360"/>
                    <a:pt x="752" y="184"/>
                    <a:pt x="976" y="112"/>
                  </a:cubicBezTo>
                  <a:cubicBezTo>
                    <a:pt x="1200" y="40"/>
                    <a:pt x="1288" y="32"/>
                    <a:pt x="1408" y="16"/>
                  </a:cubicBezTo>
                  <a:cubicBezTo>
                    <a:pt x="1528" y="0"/>
                    <a:pt x="1600" y="8"/>
                    <a:pt x="1696" y="16"/>
                  </a:cubicBezTo>
                  <a:cubicBezTo>
                    <a:pt x="1792" y="24"/>
                    <a:pt x="1896" y="32"/>
                    <a:pt x="1984" y="64"/>
                  </a:cubicBezTo>
                  <a:cubicBezTo>
                    <a:pt x="2072" y="96"/>
                    <a:pt x="2176" y="168"/>
                    <a:pt x="2224" y="208"/>
                  </a:cubicBezTo>
                  <a:cubicBezTo>
                    <a:pt x="2272" y="248"/>
                    <a:pt x="2264" y="256"/>
                    <a:pt x="2272" y="304"/>
                  </a:cubicBezTo>
                  <a:cubicBezTo>
                    <a:pt x="2280" y="352"/>
                    <a:pt x="2296" y="432"/>
                    <a:pt x="2272" y="496"/>
                  </a:cubicBezTo>
                  <a:cubicBezTo>
                    <a:pt x="2248" y="560"/>
                    <a:pt x="2184" y="640"/>
                    <a:pt x="2128" y="688"/>
                  </a:cubicBezTo>
                  <a:cubicBezTo>
                    <a:pt x="2072" y="736"/>
                    <a:pt x="2008" y="760"/>
                    <a:pt x="1936" y="784"/>
                  </a:cubicBezTo>
                  <a:cubicBezTo>
                    <a:pt x="1864" y="808"/>
                    <a:pt x="1776" y="824"/>
                    <a:pt x="1696" y="832"/>
                  </a:cubicBezTo>
                  <a:cubicBezTo>
                    <a:pt x="1616" y="840"/>
                    <a:pt x="1576" y="848"/>
                    <a:pt x="1456" y="832"/>
                  </a:cubicBezTo>
                  <a:cubicBezTo>
                    <a:pt x="1336" y="816"/>
                    <a:pt x="1120" y="768"/>
                    <a:pt x="976" y="736"/>
                  </a:cubicBezTo>
                  <a:cubicBezTo>
                    <a:pt x="832" y="704"/>
                    <a:pt x="744" y="688"/>
                    <a:pt x="592" y="640"/>
                  </a:cubicBezTo>
                  <a:cubicBezTo>
                    <a:pt x="440" y="592"/>
                    <a:pt x="0" y="536"/>
                    <a:pt x="64" y="448"/>
                  </a:cubicBez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rot="1428000">
              <a:off x="1812600" y="4691520"/>
              <a:ext cx="152280" cy="76176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2" name=""/>
          <p:cNvSpPr/>
          <p:nvPr/>
        </p:nvSpPr>
        <p:spPr>
          <a:xfrm>
            <a:off x="5943600" y="506736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3" name=""/>
          <p:cNvGrpSpPr/>
          <p:nvPr/>
        </p:nvGrpSpPr>
        <p:grpSpPr>
          <a:xfrm>
            <a:off x="4752720" y="4667040"/>
            <a:ext cx="2596680" cy="1597680"/>
            <a:chOff x="4752720" y="4667040"/>
            <a:chExt cx="2596680" cy="1597680"/>
          </a:xfrm>
        </p:grpSpPr>
        <p:sp>
          <p:nvSpPr>
            <p:cNvPr id="314" name=""/>
            <p:cNvSpPr/>
            <p:nvPr/>
          </p:nvSpPr>
          <p:spPr>
            <a:xfrm rot="9740400">
              <a:off x="4831920" y="5015520"/>
              <a:ext cx="2438280" cy="900360"/>
            </a:xfrm>
            <a:custGeom>
              <a:avLst/>
              <a:gdLst/>
              <a:ahLst/>
              <a:rect l="l" t="t" r="r" b="b"/>
              <a:pathLst>
                <a:path w="2296" h="848">
                  <a:moveTo>
                    <a:pt x="64" y="448"/>
                  </a:moveTo>
                  <a:cubicBezTo>
                    <a:pt x="128" y="360"/>
                    <a:pt x="752" y="184"/>
                    <a:pt x="976" y="112"/>
                  </a:cubicBezTo>
                  <a:cubicBezTo>
                    <a:pt x="1200" y="40"/>
                    <a:pt x="1288" y="32"/>
                    <a:pt x="1408" y="16"/>
                  </a:cubicBezTo>
                  <a:cubicBezTo>
                    <a:pt x="1528" y="0"/>
                    <a:pt x="1600" y="8"/>
                    <a:pt x="1696" y="16"/>
                  </a:cubicBezTo>
                  <a:cubicBezTo>
                    <a:pt x="1792" y="24"/>
                    <a:pt x="1896" y="32"/>
                    <a:pt x="1984" y="64"/>
                  </a:cubicBezTo>
                  <a:cubicBezTo>
                    <a:pt x="2072" y="96"/>
                    <a:pt x="2176" y="168"/>
                    <a:pt x="2224" y="208"/>
                  </a:cubicBezTo>
                  <a:cubicBezTo>
                    <a:pt x="2272" y="248"/>
                    <a:pt x="2264" y="256"/>
                    <a:pt x="2272" y="304"/>
                  </a:cubicBezTo>
                  <a:cubicBezTo>
                    <a:pt x="2280" y="352"/>
                    <a:pt x="2296" y="432"/>
                    <a:pt x="2272" y="496"/>
                  </a:cubicBezTo>
                  <a:cubicBezTo>
                    <a:pt x="2248" y="560"/>
                    <a:pt x="2184" y="640"/>
                    <a:pt x="2128" y="688"/>
                  </a:cubicBezTo>
                  <a:cubicBezTo>
                    <a:pt x="2072" y="736"/>
                    <a:pt x="2008" y="760"/>
                    <a:pt x="1936" y="784"/>
                  </a:cubicBezTo>
                  <a:cubicBezTo>
                    <a:pt x="1864" y="808"/>
                    <a:pt x="1776" y="824"/>
                    <a:pt x="1696" y="832"/>
                  </a:cubicBezTo>
                  <a:cubicBezTo>
                    <a:pt x="1616" y="840"/>
                    <a:pt x="1576" y="848"/>
                    <a:pt x="1456" y="832"/>
                  </a:cubicBezTo>
                  <a:cubicBezTo>
                    <a:pt x="1336" y="816"/>
                    <a:pt x="1120" y="768"/>
                    <a:pt x="976" y="736"/>
                  </a:cubicBezTo>
                  <a:cubicBezTo>
                    <a:pt x="832" y="704"/>
                    <a:pt x="744" y="688"/>
                    <a:pt x="592" y="640"/>
                  </a:cubicBezTo>
                  <a:cubicBezTo>
                    <a:pt x="440" y="592"/>
                    <a:pt x="0" y="536"/>
                    <a:pt x="64" y="448"/>
                  </a:cubicBez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rot="9740400">
              <a:off x="7054560" y="4686840"/>
              <a:ext cx="152640" cy="762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6" name=""/>
          <p:cNvSpPr/>
          <p:nvPr/>
        </p:nvSpPr>
        <p:spPr>
          <a:xfrm>
            <a:off x="2819520" y="5067360"/>
            <a:ext cx="7596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981080" y="5105520"/>
            <a:ext cx="51055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143000" y="1447920"/>
            <a:ext cx="74674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Reduce the amount of interference from external sourc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rove the link between your base station and your customer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47920" y="2819520"/>
            <a:ext cx="6019560" cy="121896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447920" y="4648320"/>
            <a:ext cx="6019560" cy="160020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350000" y="2558880"/>
            <a:ext cx="3181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No Til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Elevation Pattern Show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360080" y="4394160"/>
            <a:ext cx="91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With Ti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719360" y="3798720"/>
            <a:ext cx="162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Your Base St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20800" y="6019920"/>
            <a:ext cx="162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Your Base St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891760" y="3809880"/>
            <a:ext cx="145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ternal 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5893200" y="6019920"/>
            <a:ext cx="145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ternal 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63320" y="3238560"/>
            <a:ext cx="9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ten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58640" y="4876920"/>
            <a:ext cx="9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ten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7702560" y="3238560"/>
            <a:ext cx="9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ten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7697520" y="4876920"/>
            <a:ext cx="9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ten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371600" y="34290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371600" y="506736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 flipH="1">
            <a:off x="7315200" y="34290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 flipH="1">
            <a:off x="7324200" y="505764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5" name=""/>
          <p:cNvGrpSpPr/>
          <p:nvPr/>
        </p:nvGrpSpPr>
        <p:grpSpPr>
          <a:xfrm>
            <a:off x="928800" y="2539440"/>
            <a:ext cx="2562120" cy="1996560"/>
            <a:chOff x="928800" y="2539440"/>
            <a:chExt cx="2562120" cy="1996560"/>
          </a:xfrm>
        </p:grpSpPr>
        <p:sp>
          <p:nvSpPr>
            <p:cNvPr id="336" name=""/>
            <p:cNvSpPr/>
            <p:nvPr/>
          </p:nvSpPr>
          <p:spPr>
            <a:xfrm rot="1795800">
              <a:off x="1036440" y="3200760"/>
              <a:ext cx="609120" cy="330120"/>
            </a:xfrm>
            <a:custGeom>
              <a:avLst/>
              <a:gdLst/>
              <a:ahLst/>
              <a:rect l="l" t="t" r="r" b="b"/>
              <a:pathLst>
                <a:path w="384" h="208">
                  <a:moveTo>
                    <a:pt x="48" y="8"/>
                  </a:moveTo>
                  <a:cubicBezTo>
                    <a:pt x="96" y="16"/>
                    <a:pt x="288" y="72"/>
                    <a:pt x="336" y="104"/>
                  </a:cubicBezTo>
                  <a:cubicBezTo>
                    <a:pt x="384" y="136"/>
                    <a:pt x="384" y="208"/>
                    <a:pt x="336" y="200"/>
                  </a:cubicBezTo>
                  <a:cubicBezTo>
                    <a:pt x="288" y="192"/>
                    <a:pt x="96" y="88"/>
                    <a:pt x="48" y="56"/>
                  </a:cubicBezTo>
                  <a:cubicBezTo>
                    <a:pt x="0" y="24"/>
                    <a:pt x="0" y="0"/>
                    <a:pt x="48" y="8"/>
                  </a:cubicBezTo>
                  <a:close/>
                </a:path>
              </a:pathLst>
            </a:custGeom>
            <a:noFill/>
            <a:ln w="9360">
              <a:solidFill>
                <a:srgbClr val="00c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rot="1795800">
              <a:off x="990360" y="3087360"/>
              <a:ext cx="2438280" cy="900000"/>
            </a:xfrm>
            <a:custGeom>
              <a:avLst/>
              <a:gdLst/>
              <a:ahLst/>
              <a:rect l="l" t="t" r="r" b="b"/>
              <a:pathLst>
                <a:path w="2296" h="848">
                  <a:moveTo>
                    <a:pt x="64" y="448"/>
                  </a:moveTo>
                  <a:cubicBezTo>
                    <a:pt x="128" y="360"/>
                    <a:pt x="752" y="184"/>
                    <a:pt x="976" y="112"/>
                  </a:cubicBezTo>
                  <a:cubicBezTo>
                    <a:pt x="1200" y="40"/>
                    <a:pt x="1288" y="32"/>
                    <a:pt x="1408" y="16"/>
                  </a:cubicBezTo>
                  <a:cubicBezTo>
                    <a:pt x="1528" y="0"/>
                    <a:pt x="1600" y="8"/>
                    <a:pt x="1696" y="16"/>
                  </a:cubicBezTo>
                  <a:cubicBezTo>
                    <a:pt x="1792" y="24"/>
                    <a:pt x="1896" y="32"/>
                    <a:pt x="1984" y="64"/>
                  </a:cubicBezTo>
                  <a:cubicBezTo>
                    <a:pt x="2072" y="96"/>
                    <a:pt x="2176" y="168"/>
                    <a:pt x="2224" y="208"/>
                  </a:cubicBezTo>
                  <a:cubicBezTo>
                    <a:pt x="2272" y="248"/>
                    <a:pt x="2264" y="256"/>
                    <a:pt x="2272" y="304"/>
                  </a:cubicBezTo>
                  <a:cubicBezTo>
                    <a:pt x="2280" y="352"/>
                    <a:pt x="2296" y="432"/>
                    <a:pt x="2272" y="496"/>
                  </a:cubicBezTo>
                  <a:cubicBezTo>
                    <a:pt x="2248" y="560"/>
                    <a:pt x="2184" y="640"/>
                    <a:pt x="2128" y="688"/>
                  </a:cubicBezTo>
                  <a:cubicBezTo>
                    <a:pt x="2072" y="736"/>
                    <a:pt x="2008" y="760"/>
                    <a:pt x="1936" y="784"/>
                  </a:cubicBezTo>
                  <a:cubicBezTo>
                    <a:pt x="1864" y="808"/>
                    <a:pt x="1776" y="824"/>
                    <a:pt x="1696" y="832"/>
                  </a:cubicBezTo>
                  <a:cubicBezTo>
                    <a:pt x="1616" y="840"/>
                    <a:pt x="1576" y="848"/>
                    <a:pt x="1456" y="832"/>
                  </a:cubicBezTo>
                  <a:cubicBezTo>
                    <a:pt x="1336" y="816"/>
                    <a:pt x="1120" y="768"/>
                    <a:pt x="976" y="736"/>
                  </a:cubicBezTo>
                  <a:cubicBezTo>
                    <a:pt x="832" y="704"/>
                    <a:pt x="744" y="688"/>
                    <a:pt x="592" y="640"/>
                  </a:cubicBezTo>
                  <a:cubicBezTo>
                    <a:pt x="440" y="592"/>
                    <a:pt x="0" y="536"/>
                    <a:pt x="64" y="448"/>
                  </a:cubicBezTo>
                  <a:close/>
                </a:path>
              </a:pathLst>
            </a:custGeom>
            <a:noFill/>
            <a:ln w="9360">
              <a:solidFill>
                <a:srgbClr val="00c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8" name=""/>
          <p:cNvSpPr/>
          <p:nvPr/>
        </p:nvSpPr>
        <p:spPr>
          <a:xfrm>
            <a:off x="1155600" y="3135240"/>
            <a:ext cx="609840" cy="330120"/>
          </a:xfrm>
          <a:custGeom>
            <a:avLst/>
            <a:gdLst/>
            <a:ahLst/>
            <a:rect l="l" t="t" r="r" b="b"/>
            <a:pathLst>
              <a:path w="384" h="208">
                <a:moveTo>
                  <a:pt x="48" y="8"/>
                </a:moveTo>
                <a:cubicBezTo>
                  <a:pt x="96" y="16"/>
                  <a:pt x="288" y="72"/>
                  <a:pt x="336" y="104"/>
                </a:cubicBezTo>
                <a:cubicBezTo>
                  <a:pt x="384" y="136"/>
                  <a:pt x="384" y="208"/>
                  <a:pt x="336" y="200"/>
                </a:cubicBezTo>
                <a:cubicBezTo>
                  <a:pt x="288" y="192"/>
                  <a:pt x="96" y="88"/>
                  <a:pt x="48" y="56"/>
                </a:cubicBezTo>
                <a:cubicBezTo>
                  <a:pt x="0" y="24"/>
                  <a:pt x="0" y="0"/>
                  <a:pt x="48" y="8"/>
                </a:cubicBezTo>
                <a:close/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17440" y="609480"/>
            <a:ext cx="8709120" cy="596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0" name="New%20Logo" descr=""/>
          <p:cNvPicPr/>
          <p:nvPr/>
        </p:nvPicPr>
        <p:blipFill>
          <a:blip r:embed="rId1"/>
          <a:stretch/>
        </p:blipFill>
        <p:spPr>
          <a:xfrm>
            <a:off x="243000" y="25560"/>
            <a:ext cx="1066680" cy="53784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/>
          <p:nvPr/>
        </p:nvSpPr>
        <p:spPr>
          <a:xfrm>
            <a:off x="775080" y="6607080"/>
            <a:ext cx="7448040" cy="2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851 Burlway Road, Burlingame, CA 94010; Phone: (650) 348-1190; Fax: (650) 348-1261; Email: info@swedcom.co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236400" y="130320"/>
            <a:ext cx="5782320" cy="4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DIRECTIONAL ANTENNA SELECTION AND DEPLOY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im Bryant (jbryant@swedcom.com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2505960" y="819000"/>
            <a:ext cx="413172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WN TILTING AN ANTENN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695600" y="3389400"/>
            <a:ext cx="7596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143000" y="1447920"/>
            <a:ext cx="74674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duce the amount of interference from external sourc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Improve the link between your base station and your customer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079640" y="2565360"/>
            <a:ext cx="2438280" cy="900000"/>
          </a:xfrm>
          <a:custGeom>
            <a:avLst/>
            <a:gdLst/>
            <a:ahLst/>
            <a:rect l="l" t="t" r="r" b="b"/>
            <a:pathLst>
              <a:path w="2296" h="848">
                <a:moveTo>
                  <a:pt x="64" y="448"/>
                </a:moveTo>
                <a:cubicBezTo>
                  <a:pt x="128" y="360"/>
                  <a:pt x="752" y="184"/>
                  <a:pt x="976" y="112"/>
                </a:cubicBezTo>
                <a:cubicBezTo>
                  <a:pt x="1200" y="40"/>
                  <a:pt x="1288" y="32"/>
                  <a:pt x="1408" y="16"/>
                </a:cubicBezTo>
                <a:cubicBezTo>
                  <a:pt x="1528" y="0"/>
                  <a:pt x="1600" y="8"/>
                  <a:pt x="1696" y="16"/>
                </a:cubicBezTo>
                <a:cubicBezTo>
                  <a:pt x="1792" y="24"/>
                  <a:pt x="1896" y="32"/>
                  <a:pt x="1984" y="64"/>
                </a:cubicBezTo>
                <a:cubicBezTo>
                  <a:pt x="2072" y="96"/>
                  <a:pt x="2176" y="168"/>
                  <a:pt x="2224" y="208"/>
                </a:cubicBezTo>
                <a:cubicBezTo>
                  <a:pt x="2272" y="248"/>
                  <a:pt x="2264" y="256"/>
                  <a:pt x="2272" y="304"/>
                </a:cubicBezTo>
                <a:cubicBezTo>
                  <a:pt x="2280" y="352"/>
                  <a:pt x="2296" y="432"/>
                  <a:pt x="2272" y="496"/>
                </a:cubicBezTo>
                <a:cubicBezTo>
                  <a:pt x="2248" y="560"/>
                  <a:pt x="2184" y="640"/>
                  <a:pt x="2128" y="688"/>
                </a:cubicBezTo>
                <a:cubicBezTo>
                  <a:pt x="2072" y="736"/>
                  <a:pt x="2008" y="760"/>
                  <a:pt x="1936" y="784"/>
                </a:cubicBezTo>
                <a:cubicBezTo>
                  <a:pt x="1864" y="808"/>
                  <a:pt x="1776" y="824"/>
                  <a:pt x="1696" y="832"/>
                </a:cubicBezTo>
                <a:cubicBezTo>
                  <a:pt x="1616" y="840"/>
                  <a:pt x="1576" y="848"/>
                  <a:pt x="1456" y="832"/>
                </a:cubicBezTo>
                <a:cubicBezTo>
                  <a:pt x="1336" y="816"/>
                  <a:pt x="1120" y="768"/>
                  <a:pt x="976" y="736"/>
                </a:cubicBezTo>
                <a:cubicBezTo>
                  <a:pt x="832" y="704"/>
                  <a:pt x="744" y="688"/>
                  <a:pt x="592" y="640"/>
                </a:cubicBezTo>
                <a:cubicBezTo>
                  <a:pt x="440" y="592"/>
                  <a:pt x="0" y="536"/>
                  <a:pt x="64" y="448"/>
                </a:cubicBezTo>
                <a:close/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77640" y="2502000"/>
            <a:ext cx="162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Your Base St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990720" y="2882880"/>
            <a:ext cx="75960" cy="2057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990720" y="2971800"/>
            <a:ext cx="152280" cy="7632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981000" y="3133800"/>
            <a:ext cx="152640" cy="759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16000" y="4876920"/>
            <a:ext cx="8686800" cy="1657080"/>
          </a:xfrm>
          <a:custGeom>
            <a:avLst/>
            <a:gdLst/>
            <a:ahLst/>
            <a:rect l="l" t="t" r="r" b="b"/>
            <a:pathLst>
              <a:path w="5472" h="1044">
                <a:moveTo>
                  <a:pt x="0" y="0"/>
                </a:moveTo>
                <a:cubicBezTo>
                  <a:pt x="93" y="31"/>
                  <a:pt x="273" y="21"/>
                  <a:pt x="352" y="24"/>
                </a:cubicBezTo>
                <a:cubicBezTo>
                  <a:pt x="509" y="76"/>
                  <a:pt x="875" y="47"/>
                  <a:pt x="912" y="48"/>
                </a:cubicBezTo>
                <a:cubicBezTo>
                  <a:pt x="920" y="56"/>
                  <a:pt x="930" y="63"/>
                  <a:pt x="936" y="72"/>
                </a:cubicBezTo>
                <a:cubicBezTo>
                  <a:pt x="941" y="79"/>
                  <a:pt x="939" y="89"/>
                  <a:pt x="944" y="96"/>
                </a:cubicBezTo>
                <a:cubicBezTo>
                  <a:pt x="988" y="151"/>
                  <a:pt x="1045" y="194"/>
                  <a:pt x="1112" y="216"/>
                </a:cubicBezTo>
                <a:cubicBezTo>
                  <a:pt x="1117" y="232"/>
                  <a:pt x="1116" y="252"/>
                  <a:pt x="1128" y="264"/>
                </a:cubicBezTo>
                <a:cubicBezTo>
                  <a:pt x="1221" y="357"/>
                  <a:pt x="1146" y="224"/>
                  <a:pt x="1192" y="304"/>
                </a:cubicBezTo>
                <a:cubicBezTo>
                  <a:pt x="1212" y="340"/>
                  <a:pt x="1213" y="381"/>
                  <a:pt x="1232" y="416"/>
                </a:cubicBezTo>
                <a:cubicBezTo>
                  <a:pt x="1246" y="441"/>
                  <a:pt x="1270" y="472"/>
                  <a:pt x="1288" y="496"/>
                </a:cubicBezTo>
                <a:cubicBezTo>
                  <a:pt x="1304" y="543"/>
                  <a:pt x="1285" y="498"/>
                  <a:pt x="1328" y="552"/>
                </a:cubicBezTo>
                <a:cubicBezTo>
                  <a:pt x="1355" y="585"/>
                  <a:pt x="1367" y="629"/>
                  <a:pt x="1400" y="656"/>
                </a:cubicBezTo>
                <a:cubicBezTo>
                  <a:pt x="1433" y="684"/>
                  <a:pt x="1524" y="697"/>
                  <a:pt x="1568" y="704"/>
                </a:cubicBezTo>
                <a:cubicBezTo>
                  <a:pt x="1686" y="783"/>
                  <a:pt x="1787" y="919"/>
                  <a:pt x="1936" y="944"/>
                </a:cubicBezTo>
                <a:cubicBezTo>
                  <a:pt x="2011" y="957"/>
                  <a:pt x="2082" y="956"/>
                  <a:pt x="2160" y="960"/>
                </a:cubicBezTo>
                <a:cubicBezTo>
                  <a:pt x="2251" y="971"/>
                  <a:pt x="2331" y="986"/>
                  <a:pt x="2424" y="992"/>
                </a:cubicBezTo>
                <a:cubicBezTo>
                  <a:pt x="2682" y="1044"/>
                  <a:pt x="3385" y="1015"/>
                  <a:pt x="3480" y="1016"/>
                </a:cubicBezTo>
                <a:cubicBezTo>
                  <a:pt x="4659" y="1027"/>
                  <a:pt x="4246" y="1024"/>
                  <a:pt x="5472" y="1024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943600" y="6172200"/>
            <a:ext cx="30492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986440" y="621972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6134040" y="621972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5986440" y="633888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134040" y="633888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 rot="8100000">
            <a:off x="5942880" y="6019920"/>
            <a:ext cx="304920" cy="304560"/>
          </a:xfrm>
          <a:prstGeom prst="rtTriangle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19320" y="3073320"/>
            <a:ext cx="4724280" cy="3276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1136520" y="2884320"/>
            <a:ext cx="77760" cy="3924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959200" y="4267080"/>
            <a:ext cx="75960" cy="76320"/>
          </a:xfrm>
          <a:prstGeom prst="ellipse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552840" y="2819520"/>
            <a:ext cx="299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fore Tilt (Shown in Black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431520" y="3824280"/>
            <a:ext cx="28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99"/>
                </a:solidFill>
                <a:latin typeface="Arial"/>
              </a:rPr>
              <a:t>After Tilt (Shown in Gree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/>
          <p:nvPr/>
        </p:nvSpPr>
        <p:spPr>
          <a:xfrm>
            <a:off x="217440" y="609480"/>
            <a:ext cx="8709120" cy="596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4" name="New%20Logo" descr=""/>
          <p:cNvPicPr/>
          <p:nvPr/>
        </p:nvPicPr>
        <p:blipFill>
          <a:blip r:embed="rId1"/>
          <a:stretch/>
        </p:blipFill>
        <p:spPr>
          <a:xfrm>
            <a:off x="243000" y="25560"/>
            <a:ext cx="1066680" cy="537840"/>
          </a:xfrm>
          <a:prstGeom prst="rect">
            <a:avLst/>
          </a:prstGeom>
          <a:ln w="0">
            <a:noFill/>
          </a:ln>
        </p:spPr>
      </p:pic>
      <p:sp>
        <p:nvSpPr>
          <p:cNvPr id="365" name=""/>
          <p:cNvSpPr/>
          <p:nvPr/>
        </p:nvSpPr>
        <p:spPr>
          <a:xfrm>
            <a:off x="775080" y="6607080"/>
            <a:ext cx="7448040" cy="2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851 Burlway Road, Burlingame, CA 94010; Phone: (650) 348-1190; Fax: (650) 348-1261; Email: info@swedcom.co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363040" y="873000"/>
            <a:ext cx="428400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UNTING CONSIDERA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7088040" y="2143080"/>
            <a:ext cx="144720" cy="1928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7026120" y="2679840"/>
            <a:ext cx="219240" cy="71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7026120" y="2214720"/>
            <a:ext cx="219240" cy="71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5878440" y="4071960"/>
            <a:ext cx="2540160" cy="2214720"/>
          </a:xfrm>
          <a:prstGeom prst="rect">
            <a:avLst/>
          </a:prstGeom>
          <a:solidFill>
            <a:srgbClr val="cc33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6192720" y="4286160"/>
            <a:ext cx="579600" cy="71460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7473960" y="4286160"/>
            <a:ext cx="581040" cy="71460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192720" y="5227560"/>
            <a:ext cx="579600" cy="71460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7473960" y="5227560"/>
            <a:ext cx="581040" cy="71460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 flipH="1" flipV="1">
            <a:off x="6928920" y="1571400"/>
            <a:ext cx="219240" cy="5713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 flipV="1">
            <a:off x="7169040" y="1568160"/>
            <a:ext cx="200520" cy="5778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858000" y="1785960"/>
            <a:ext cx="290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 flipH="1" flipV="1">
            <a:off x="7319520" y="1785960"/>
            <a:ext cx="2890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 flipV="1">
            <a:off x="7161120" y="1560240"/>
            <a:ext cx="0" cy="5713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 flipH="1" flipV="1">
            <a:off x="5659560" y="3489120"/>
            <a:ext cx="218880" cy="5713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V="1">
            <a:off x="5899320" y="3485520"/>
            <a:ext cx="198000" cy="579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587920" y="3703680"/>
            <a:ext cx="290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6046560" y="3703680"/>
            <a:ext cx="29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V="1">
            <a:off x="5888160" y="3476520"/>
            <a:ext cx="0" cy="5716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28800" y="2490840"/>
            <a:ext cx="3571920" cy="11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mounting an antenna on an object such as a pole and/or a building, be sure to consider movement of the object(s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1092240" y="4572000"/>
            <a:ext cx="3411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+ B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« Vertical Beamwid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015920" y="4572000"/>
            <a:ext cx="3265560" cy="357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7693200" y="1841400"/>
            <a:ext cx="84132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4880" rIns="74880" tIns="37440" bIns="37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7402680" y="1285920"/>
            <a:ext cx="1303200" cy="6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4880" rIns="74880" tIns="37440" bIns="37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v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 Po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5530680" y="3098880"/>
            <a:ext cx="80676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4880" rIns="74880" tIns="37440" bIns="37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226120" y="2571840"/>
            <a:ext cx="1306440" cy="6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4880" rIns="74880" tIns="37440" bIns="37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v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 Buil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3236400" y="130320"/>
            <a:ext cx="5782320" cy="4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DIRECTIONAL ANTENNA SELECTION AND DEPLOY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im Bryant (jbryant@swedcom.com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6867360" y="2104920"/>
            <a:ext cx="152640" cy="7621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/>
          <p:nvPr/>
        </p:nvSpPr>
        <p:spPr>
          <a:xfrm>
            <a:off x="217440" y="609480"/>
            <a:ext cx="8709120" cy="596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5" name="New%20Logo" descr=""/>
          <p:cNvPicPr/>
          <p:nvPr/>
        </p:nvPicPr>
        <p:blipFill>
          <a:blip r:embed="rId1"/>
          <a:stretch/>
        </p:blipFill>
        <p:spPr>
          <a:xfrm>
            <a:off x="243000" y="25560"/>
            <a:ext cx="1066680" cy="537840"/>
          </a:xfrm>
          <a:prstGeom prst="rect">
            <a:avLst/>
          </a:prstGeom>
          <a:ln w="0">
            <a:noFill/>
          </a:ln>
        </p:spPr>
      </p:pic>
      <p:sp>
        <p:nvSpPr>
          <p:cNvPr id="396" name=""/>
          <p:cNvSpPr/>
          <p:nvPr/>
        </p:nvSpPr>
        <p:spPr>
          <a:xfrm>
            <a:off x="775080" y="6607080"/>
            <a:ext cx="7448040" cy="2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851 Burlway Road, Burlingame, CA 94010; Phone: (650) 348-1190; Fax: (650) 348-1261; Email: info@swedcom.co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891080" y="1087560"/>
            <a:ext cx="540144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NTENNA ELECTRICAL PARAMETE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50720" y="2801880"/>
            <a:ext cx="2842200" cy="242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ai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ront-to-Back Rati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zimuth Patter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levation Patter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pper Lob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turn Lo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il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1627200" y="1801800"/>
            <a:ext cx="6026040" cy="75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following electrical parameters will chang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ver an antenna’s designed bandwidth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3236400" y="130320"/>
            <a:ext cx="5782320" cy="4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DIRECTIONAL ANTENNA SELECTION AND DEPLOY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im Bryant (jbryant@swedcom.com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/>
          <p:nvPr/>
        </p:nvSpPr>
        <p:spPr>
          <a:xfrm>
            <a:off x="217440" y="609480"/>
            <a:ext cx="8709120" cy="596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2" name="New%20Logo" descr=""/>
          <p:cNvPicPr/>
          <p:nvPr/>
        </p:nvPicPr>
        <p:blipFill>
          <a:blip r:embed="rId1"/>
          <a:stretch/>
        </p:blipFill>
        <p:spPr>
          <a:xfrm>
            <a:off x="243000" y="25560"/>
            <a:ext cx="1066680" cy="537840"/>
          </a:xfrm>
          <a:prstGeom prst="rect">
            <a:avLst/>
          </a:prstGeom>
          <a:ln w="0">
            <a:noFill/>
          </a:ln>
        </p:spPr>
      </p:pic>
      <p:sp>
        <p:nvSpPr>
          <p:cNvPr id="403" name=""/>
          <p:cNvSpPr/>
          <p:nvPr/>
        </p:nvSpPr>
        <p:spPr>
          <a:xfrm>
            <a:off x="775080" y="6607080"/>
            <a:ext cx="7448040" cy="2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851 Burlway Road, Burlingame, CA 94010; Phone: (650) 348-1190; Fax: (650) 348-1261; Email: info@swedcom.co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161440" y="1087560"/>
            <a:ext cx="470340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PLOYMENT CONSIDERA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57200" y="2071800"/>
            <a:ext cx="8305920" cy="32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derstand the Ramifications of Various Resolutions on Patter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ider All Points on an Azimuth and Elevation Patter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sure Proper Isolation Between Antennas at Base Stati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 a Worst Case Link Budge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Worst Case Interference from Neighboring Antenna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wn Tilt When Possibl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ke into Account Movement of the Object(s) the Antennas are Mounted t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now How the Antenna Parameters Change Over the Bandwidth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236400" y="130320"/>
            <a:ext cx="5782320" cy="4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DIRECTIONAL ANTENNA SELECTION AND DEPLOY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im Bryant (jbryant@swedcom.com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7440" y="609480"/>
            <a:ext cx="8709120" cy="596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New%20Logo" descr=""/>
          <p:cNvPicPr/>
          <p:nvPr/>
        </p:nvPicPr>
        <p:blipFill>
          <a:blip r:embed="rId1"/>
          <a:stretch/>
        </p:blipFill>
        <p:spPr>
          <a:xfrm>
            <a:off x="243000" y="25560"/>
            <a:ext cx="1066680" cy="537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75080" y="6607080"/>
            <a:ext cx="7448040" cy="2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851 Burlway Road, Burlingame, CA 94010; Phone: (650) 348-1190; Fax: (650) 348-1261; Email: info@swedcom.co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236400" y="130320"/>
            <a:ext cx="5782320" cy="4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DIRECTIONAL ANTENNA SELECTION AND DEPLOY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im Bryant (jbryant@swedcom.com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161440" y="1087560"/>
            <a:ext cx="470340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PLOYMENT CONSIDERA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171880" y="2367000"/>
            <a:ext cx="5219640" cy="177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tenna Elevation and Azimuth Patter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se Station Deployment Consid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 Budget and Interfer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tenna Electrical Parame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17440" y="609480"/>
            <a:ext cx="8709120" cy="596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New%20Logo" descr=""/>
          <p:cNvPicPr/>
          <p:nvPr/>
        </p:nvPicPr>
        <p:blipFill>
          <a:blip r:embed="rId1"/>
          <a:stretch/>
        </p:blipFill>
        <p:spPr>
          <a:xfrm>
            <a:off x="243000" y="25560"/>
            <a:ext cx="1066680" cy="5378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775080" y="6607080"/>
            <a:ext cx="7448040" cy="2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851 Burlway Road, Burlingame, CA 94010; Phone: (650) 348-1190; Fax: (650) 348-1261; Email: info@swedcom.co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577800" y="2389320"/>
          <a:ext cx="2540160" cy="3344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77800" y="2389320"/>
                    <a:ext cx="2540160" cy="334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3292560" y="2389320"/>
          <a:ext cx="2544840" cy="33512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292560" y="2389320"/>
                    <a:ext cx="2544840" cy="33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" name=""/>
          <p:cNvGraphicFramePr/>
          <p:nvPr/>
        </p:nvGraphicFramePr>
        <p:xfrm>
          <a:off x="5989680" y="2389320"/>
          <a:ext cx="2544840" cy="33512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989680" y="2389320"/>
                    <a:ext cx="2544840" cy="33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"/>
          <p:cNvSpPr/>
          <p:nvPr/>
        </p:nvSpPr>
        <p:spPr>
          <a:xfrm>
            <a:off x="765360" y="5869080"/>
            <a:ext cx="2158560" cy="3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Elevation Pattern A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471120" y="5870520"/>
            <a:ext cx="2158560" cy="3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Elevation Pattern B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176520" y="5870520"/>
            <a:ext cx="2158560" cy="3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Elevation Pattern C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54920" y="1144440"/>
            <a:ext cx="5828040" cy="42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ICH ANTENNA WOULD YOU CHOOSE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236400" y="130320"/>
            <a:ext cx="5782320" cy="4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DIRECTIONAL ANTENNA SELECTION AND DEPLOY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im Bryant (jbryant@swedcom.com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217440" y="609480"/>
            <a:ext cx="8709120" cy="596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New%20Logo" descr=""/>
          <p:cNvPicPr/>
          <p:nvPr/>
        </p:nvPicPr>
        <p:blipFill>
          <a:blip r:embed="rId1"/>
          <a:stretch/>
        </p:blipFill>
        <p:spPr>
          <a:xfrm>
            <a:off x="243000" y="25560"/>
            <a:ext cx="1066680" cy="53784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775080" y="6607080"/>
            <a:ext cx="7448040" cy="2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851 Burlway Road, Burlingame, CA 94010; Phone: (650) 348-1190; Fax: (650) 348-1261; Email: info@swedcom.co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587520" y="2460600"/>
          <a:ext cx="2539800" cy="3344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87520" y="2460600"/>
                    <a:ext cx="2539800" cy="334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" name=""/>
          <p:cNvGraphicFramePr/>
          <p:nvPr/>
        </p:nvGraphicFramePr>
        <p:xfrm>
          <a:off x="3303720" y="2460600"/>
          <a:ext cx="2544480" cy="33512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303720" y="2460600"/>
                    <a:ext cx="2544480" cy="33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6000840" y="2460600"/>
          <a:ext cx="2544840" cy="33512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00840" y="2460600"/>
                    <a:ext cx="2544840" cy="33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" name=""/>
          <p:cNvSpPr/>
          <p:nvPr/>
        </p:nvSpPr>
        <p:spPr>
          <a:xfrm>
            <a:off x="884160" y="5940360"/>
            <a:ext cx="1943640" cy="3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50 dB Resolutio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587400" y="5942160"/>
            <a:ext cx="1943640" cy="3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40 dB Resolutio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294240" y="5942160"/>
            <a:ext cx="1943640" cy="3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30 dB Resolutio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856160" y="1233360"/>
            <a:ext cx="5441040" cy="42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Y ARE FROM THE SAME ANTENN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36400" y="130320"/>
            <a:ext cx="5782320" cy="4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DIRECTIONAL ANTENNA SELECTION AND DEPLOY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im Bryant (jbryant@swedcom.com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217440" y="609480"/>
            <a:ext cx="8709120" cy="596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New%20Logo" descr=""/>
          <p:cNvPicPr/>
          <p:nvPr/>
        </p:nvPicPr>
        <p:blipFill>
          <a:blip r:embed="rId1"/>
          <a:stretch/>
        </p:blipFill>
        <p:spPr>
          <a:xfrm>
            <a:off x="243000" y="25560"/>
            <a:ext cx="1066680" cy="5378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775080" y="6607080"/>
            <a:ext cx="7448040" cy="2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851 Burlway Road, Burlingame, CA 94010; Phone: (650) 348-1190; Fax: (650) 348-1261; Email: info@swedcom.co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384120" y="2151000"/>
          <a:ext cx="8380440" cy="4421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4120" y="2151000"/>
                    <a:ext cx="8380440" cy="442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1156320" y="990720"/>
            <a:ext cx="6820200" cy="7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ROPER EVALUATION OF PATTERNS REQUI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40 dB OF PATTERN RESOLU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7086240" y="3416400"/>
            <a:ext cx="520200" cy="344880"/>
            <a:chOff x="7086240" y="3416400"/>
            <a:chExt cx="520200" cy="344880"/>
          </a:xfrm>
        </p:grpSpPr>
        <p:sp>
          <p:nvSpPr>
            <p:cNvPr id="88" name=""/>
            <p:cNvSpPr/>
            <p:nvPr/>
          </p:nvSpPr>
          <p:spPr>
            <a:xfrm>
              <a:off x="7183440" y="3416400"/>
              <a:ext cx="30492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3560" bIns="435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086240" y="3430440"/>
              <a:ext cx="520200" cy="33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3560" bIns="4356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74800"/>
                  <a:tab algn="l" pos="1749600"/>
                  <a:tab algn="l" pos="2624040"/>
                  <a:tab algn="l" pos="3498840"/>
                  <a:tab algn="l" pos="4373640"/>
                  <a:tab algn="l" pos="5248440"/>
                  <a:tab algn="l" pos="6122880"/>
                  <a:tab algn="l" pos="6997680"/>
                  <a:tab algn="l" pos="7872480"/>
                  <a:tab algn="l" pos="8747280"/>
                  <a:tab algn="l" pos="9621720"/>
                  <a:tab algn="l" pos="1049652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+1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" name=""/>
          <p:cNvGrpSpPr/>
          <p:nvPr/>
        </p:nvGrpSpPr>
        <p:grpSpPr>
          <a:xfrm>
            <a:off x="4895640" y="6248520"/>
            <a:ext cx="468360" cy="344880"/>
            <a:chOff x="4895640" y="6248520"/>
            <a:chExt cx="468360" cy="344880"/>
          </a:xfrm>
        </p:grpSpPr>
        <p:sp>
          <p:nvSpPr>
            <p:cNvPr id="91" name=""/>
            <p:cNvSpPr/>
            <p:nvPr/>
          </p:nvSpPr>
          <p:spPr>
            <a:xfrm>
              <a:off x="4964760" y="6248520"/>
              <a:ext cx="30636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3560" bIns="435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95640" y="6262560"/>
              <a:ext cx="468360" cy="33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3560" bIns="4356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74800"/>
                  <a:tab algn="l" pos="1749600"/>
                  <a:tab algn="l" pos="2624040"/>
                  <a:tab algn="l" pos="3498840"/>
                  <a:tab algn="l" pos="4373640"/>
                  <a:tab algn="l" pos="5248440"/>
                  <a:tab algn="l" pos="6122880"/>
                  <a:tab algn="l" pos="6997680"/>
                  <a:tab algn="l" pos="7872480"/>
                  <a:tab algn="l" pos="8747280"/>
                  <a:tab algn="l" pos="9621720"/>
                  <a:tab algn="l" pos="1049652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-2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" name=""/>
          <p:cNvGrpSpPr/>
          <p:nvPr/>
        </p:nvGrpSpPr>
        <p:grpSpPr>
          <a:xfrm>
            <a:off x="5222880" y="5884920"/>
            <a:ext cx="468360" cy="345240"/>
            <a:chOff x="5222880" y="5884920"/>
            <a:chExt cx="468360" cy="345240"/>
          </a:xfrm>
        </p:grpSpPr>
        <p:sp>
          <p:nvSpPr>
            <p:cNvPr id="94" name=""/>
            <p:cNvSpPr/>
            <p:nvPr/>
          </p:nvSpPr>
          <p:spPr>
            <a:xfrm>
              <a:off x="5292360" y="5884920"/>
              <a:ext cx="303480" cy="307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3560" bIns="435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222880" y="5899320"/>
              <a:ext cx="468360" cy="33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3560" bIns="4356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74800"/>
                  <a:tab algn="l" pos="1749600"/>
                  <a:tab algn="l" pos="2624040"/>
                  <a:tab algn="l" pos="3498840"/>
                  <a:tab algn="l" pos="4373640"/>
                  <a:tab algn="l" pos="5248440"/>
                  <a:tab algn="l" pos="6122880"/>
                  <a:tab algn="l" pos="6997680"/>
                  <a:tab algn="l" pos="7872480"/>
                  <a:tab algn="l" pos="8747280"/>
                  <a:tab algn="l" pos="9621720"/>
                  <a:tab algn="l" pos="1049652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-1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5578560" y="5472000"/>
            <a:ext cx="468360" cy="344880"/>
            <a:chOff x="5578560" y="5472000"/>
            <a:chExt cx="468360" cy="344880"/>
          </a:xfrm>
        </p:grpSpPr>
        <p:sp>
          <p:nvSpPr>
            <p:cNvPr id="97" name=""/>
            <p:cNvSpPr/>
            <p:nvPr/>
          </p:nvSpPr>
          <p:spPr>
            <a:xfrm>
              <a:off x="5649840" y="5472000"/>
              <a:ext cx="304920" cy="30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3560" bIns="435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578560" y="5486040"/>
              <a:ext cx="468360" cy="33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3560" bIns="4356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74800"/>
                  <a:tab algn="l" pos="1749600"/>
                  <a:tab algn="l" pos="2624040"/>
                  <a:tab algn="l" pos="3498840"/>
                  <a:tab algn="l" pos="4373640"/>
                  <a:tab algn="l" pos="5248440"/>
                  <a:tab algn="l" pos="6122880"/>
                  <a:tab algn="l" pos="6997680"/>
                  <a:tab algn="l" pos="7872480"/>
                  <a:tab algn="l" pos="8747280"/>
                  <a:tab algn="l" pos="9621720"/>
                  <a:tab algn="l" pos="1049652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-1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" name=""/>
          <p:cNvGrpSpPr/>
          <p:nvPr/>
        </p:nvGrpSpPr>
        <p:grpSpPr>
          <a:xfrm>
            <a:off x="5919840" y="5014800"/>
            <a:ext cx="355680" cy="344880"/>
            <a:chOff x="5919840" y="5014800"/>
            <a:chExt cx="355680" cy="344880"/>
          </a:xfrm>
        </p:grpSpPr>
        <p:sp>
          <p:nvSpPr>
            <p:cNvPr id="100" name=""/>
            <p:cNvSpPr/>
            <p:nvPr/>
          </p:nvSpPr>
          <p:spPr>
            <a:xfrm>
              <a:off x="5937120" y="5014800"/>
              <a:ext cx="30312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3560" bIns="435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19840" y="5028840"/>
              <a:ext cx="355680" cy="33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3560" bIns="4356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74800"/>
                  <a:tab algn="l" pos="1749600"/>
                  <a:tab algn="l" pos="2624040"/>
                  <a:tab algn="l" pos="3498840"/>
                  <a:tab algn="l" pos="4373640"/>
                  <a:tab algn="l" pos="5248440"/>
                  <a:tab algn="l" pos="6122880"/>
                  <a:tab algn="l" pos="6997680"/>
                  <a:tab algn="l" pos="7872480"/>
                  <a:tab algn="l" pos="8747280"/>
                  <a:tab algn="l" pos="9621720"/>
                  <a:tab algn="l" pos="1049652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-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6237360" y="4633920"/>
            <a:ext cx="355680" cy="344880"/>
            <a:chOff x="6237360" y="4633920"/>
            <a:chExt cx="355680" cy="344880"/>
          </a:xfrm>
        </p:grpSpPr>
        <p:sp>
          <p:nvSpPr>
            <p:cNvPr id="103" name=""/>
            <p:cNvSpPr/>
            <p:nvPr/>
          </p:nvSpPr>
          <p:spPr>
            <a:xfrm>
              <a:off x="6254640" y="4633920"/>
              <a:ext cx="30312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3560" bIns="435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237360" y="4647960"/>
              <a:ext cx="355680" cy="33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3560" bIns="4356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74800"/>
                  <a:tab algn="l" pos="1749600"/>
                  <a:tab algn="l" pos="2624040"/>
                  <a:tab algn="l" pos="3498840"/>
                  <a:tab algn="l" pos="4373640"/>
                  <a:tab algn="l" pos="5248440"/>
                  <a:tab algn="l" pos="6122880"/>
                  <a:tab algn="l" pos="6997680"/>
                  <a:tab algn="l" pos="7872480"/>
                  <a:tab algn="l" pos="8747280"/>
                  <a:tab algn="l" pos="9621720"/>
                  <a:tab algn="l" pos="1049652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-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6594120" y="4178160"/>
            <a:ext cx="407160" cy="344880"/>
            <a:chOff x="6594120" y="4178160"/>
            <a:chExt cx="407160" cy="344880"/>
          </a:xfrm>
        </p:grpSpPr>
        <p:sp>
          <p:nvSpPr>
            <p:cNvPr id="106" name=""/>
            <p:cNvSpPr/>
            <p:nvPr/>
          </p:nvSpPr>
          <p:spPr>
            <a:xfrm>
              <a:off x="6636960" y="4178160"/>
              <a:ext cx="30384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3560" bIns="435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594120" y="4192200"/>
              <a:ext cx="407160" cy="33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3560" bIns="4356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74800"/>
                  <a:tab algn="l" pos="1749600"/>
                  <a:tab algn="l" pos="2624040"/>
                  <a:tab algn="l" pos="3498840"/>
                  <a:tab algn="l" pos="4373640"/>
                  <a:tab algn="l" pos="5248440"/>
                  <a:tab algn="l" pos="6122880"/>
                  <a:tab algn="l" pos="6997680"/>
                  <a:tab algn="l" pos="7872480"/>
                  <a:tab algn="l" pos="8747280"/>
                  <a:tab algn="l" pos="9621720"/>
                  <a:tab algn="l" pos="1049652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+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6870240" y="3797280"/>
            <a:ext cx="407160" cy="344880"/>
            <a:chOff x="6870240" y="3797280"/>
            <a:chExt cx="407160" cy="344880"/>
          </a:xfrm>
        </p:grpSpPr>
        <p:sp>
          <p:nvSpPr>
            <p:cNvPr id="109" name=""/>
            <p:cNvSpPr/>
            <p:nvPr/>
          </p:nvSpPr>
          <p:spPr>
            <a:xfrm>
              <a:off x="6912000" y="3797280"/>
              <a:ext cx="30492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120" rIns="87120" tIns="43560" bIns="435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870240" y="3811320"/>
              <a:ext cx="407160" cy="33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3560" bIns="4356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74800"/>
                  <a:tab algn="l" pos="1749600"/>
                  <a:tab algn="l" pos="2624040"/>
                  <a:tab algn="l" pos="3498840"/>
                  <a:tab algn="l" pos="4373640"/>
                  <a:tab algn="l" pos="5248440"/>
                  <a:tab algn="l" pos="6122880"/>
                  <a:tab algn="l" pos="6997680"/>
                  <a:tab algn="l" pos="7872480"/>
                  <a:tab algn="l" pos="8747280"/>
                  <a:tab algn="l" pos="9621720"/>
                  <a:tab algn="l" pos="1049652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+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236400" y="130320"/>
            <a:ext cx="5782320" cy="4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DIRECTIONAL ANTENNA SELECTION AND DEPLOY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im Bryant (jbryant@swedcom.com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217440" y="609480"/>
            <a:ext cx="8709120" cy="596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New%20Logo" descr=""/>
          <p:cNvPicPr/>
          <p:nvPr/>
        </p:nvPicPr>
        <p:blipFill>
          <a:blip r:embed="rId1"/>
          <a:stretch/>
        </p:blipFill>
        <p:spPr>
          <a:xfrm>
            <a:off x="243000" y="25560"/>
            <a:ext cx="1066680" cy="5378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775080" y="6607080"/>
            <a:ext cx="7448040" cy="2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851 Burlway Road, Burlingame, CA 94010; Phone: (650) 348-1190; Fax: (650) 348-1261; Email: info@swedcom.co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156760" y="635040"/>
            <a:ext cx="482076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PARING AZIMUTH PATTER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POWER BEHIND THE ANTENNA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661160" y="4332240"/>
            <a:ext cx="723960" cy="11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3120" rIns="123120" tIns="54360" bIns="5436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176120" y="6049800"/>
            <a:ext cx="1257480" cy="3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3120" rIns="123120" tIns="61560" bIns="61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700" spc="-1" strike="noStrike">
                <a:solidFill>
                  <a:srgbClr val="cc3300"/>
                </a:solidFill>
                <a:latin typeface="Arial"/>
              </a:rPr>
              <a:t>Antenna B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824040" y="5605560"/>
            <a:ext cx="723600" cy="11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3120" rIns="123120" tIns="54360" bIns="5436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182600" y="5732640"/>
            <a:ext cx="1257480" cy="3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3120" rIns="123120" tIns="61560" bIns="61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ntenna A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1371600" y="1447920"/>
          <a:ext cx="6121440" cy="22860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371600" y="1447920"/>
                    <a:ext cx="612144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" name=""/>
          <p:cNvSpPr/>
          <p:nvPr/>
        </p:nvSpPr>
        <p:spPr>
          <a:xfrm>
            <a:off x="3236400" y="130320"/>
            <a:ext cx="5782320" cy="4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DIRECTIONAL ANTENNA SELECTION AND DEPLOY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im Bryant (jbryant@swedcom.com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SC%209012%20-%20comp%20604" descr=""/>
          <p:cNvPicPr/>
          <p:nvPr/>
        </p:nvPicPr>
        <p:blipFill>
          <a:blip r:embed="rId4"/>
          <a:stretch/>
        </p:blipFill>
        <p:spPr>
          <a:xfrm>
            <a:off x="2362320" y="3632040"/>
            <a:ext cx="4267080" cy="294336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 flipV="1">
            <a:off x="2387520" y="5810040"/>
            <a:ext cx="933480" cy="114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3120" rIns="123120" tIns="52560" bIns="52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2362320" y="6095880"/>
            <a:ext cx="1015920" cy="144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3120" rIns="123120" tIns="61560" bIns="61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362320" y="5638680"/>
            <a:ext cx="15228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496200" y="5638680"/>
            <a:ext cx="15228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324160" y="5670720"/>
            <a:ext cx="4343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965960" y="5516640"/>
            <a:ext cx="43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9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598440" y="5511960"/>
            <a:ext cx="48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+9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217440" y="609480"/>
            <a:ext cx="8709120" cy="596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New%20Logo" descr=""/>
          <p:cNvPicPr/>
          <p:nvPr/>
        </p:nvPicPr>
        <p:blipFill>
          <a:blip r:embed="rId1"/>
          <a:stretch/>
        </p:blipFill>
        <p:spPr>
          <a:xfrm>
            <a:off x="243000" y="25560"/>
            <a:ext cx="1066680" cy="53784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781200" y="6607080"/>
            <a:ext cx="7448040" cy="2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851 Burlway Road, Burlingame, CA 94010; Phone: (650) 348-1190; Fax: (650) 348-1261; Email: info@swedcom.co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998720" y="785880"/>
            <a:ext cx="499248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SOLATION AT THE BASE ST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236400" y="130320"/>
            <a:ext cx="5782320" cy="4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DIRECTIONAL ANTENNA SELECTION AND DEPLOY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im Bryant (jbryant@swedcom.com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558880" y="6168960"/>
            <a:ext cx="39240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4Sector" descr=""/>
          <p:cNvPicPr/>
          <p:nvPr/>
        </p:nvPicPr>
        <p:blipFill>
          <a:blip r:embed="rId2"/>
          <a:stretch/>
        </p:blipFill>
        <p:spPr>
          <a:xfrm>
            <a:off x="693720" y="2303640"/>
            <a:ext cx="4016520" cy="393840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2935440" y="3000240"/>
            <a:ext cx="5047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760920" y="3714840"/>
            <a:ext cx="5490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695760" y="4448160"/>
            <a:ext cx="541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935440" y="5170320"/>
            <a:ext cx="50472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814480" y="3673440"/>
            <a:ext cx="368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1500" spc="-1" strike="noStrike">
                <a:solidFill>
                  <a:srgbClr val="cc3300"/>
                </a:solidFill>
                <a:latin typeface="Arial"/>
              </a:rPr>
              <a:t>L</a:t>
            </a:r>
            <a:r>
              <a:rPr b="1" lang="en-US" sz="1500" spc="-1" strike="noStrike" baseline="-25000">
                <a:solidFill>
                  <a:srgbClr val="cc3300"/>
                </a:solidFill>
                <a:latin typeface="Arial"/>
              </a:rPr>
              <a:t>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935440" y="4324320"/>
            <a:ext cx="37116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1500" spc="-1" strike="noStrike">
                <a:solidFill>
                  <a:srgbClr val="cc3300"/>
                </a:solidFill>
                <a:latin typeface="Arial"/>
              </a:rPr>
              <a:t>L</a:t>
            </a:r>
            <a:r>
              <a:rPr b="1" lang="en-US" sz="1500" spc="-1" strike="noStrike" baseline="-25000">
                <a:solidFill>
                  <a:srgbClr val="cc3300"/>
                </a:solidFill>
                <a:latin typeface="Arial"/>
              </a:rPr>
              <a:t>2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386080" y="3956040"/>
            <a:ext cx="36828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1500" spc="-1" strike="noStrike">
                <a:solidFill>
                  <a:srgbClr val="cc3300"/>
                </a:solidFill>
                <a:latin typeface="Arial"/>
              </a:rPr>
              <a:t>L</a:t>
            </a:r>
            <a:r>
              <a:rPr b="1" lang="en-US" sz="1500" spc="-1" strike="noStrike" baseline="-25000">
                <a:solidFill>
                  <a:srgbClr val="cc3300"/>
                </a:solidFill>
                <a:latin typeface="Arial"/>
              </a:rPr>
              <a:t>3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248840" y="2335320"/>
            <a:ext cx="820080" cy="44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ten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atter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06320" y="5629320"/>
            <a:ext cx="820080" cy="44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ten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atter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565360" y="2108160"/>
            <a:ext cx="36684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649760" y="4110120"/>
            <a:ext cx="36828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38120" y="4129200"/>
            <a:ext cx="366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439880" y="3344760"/>
            <a:ext cx="820080" cy="44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ten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atter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18880" y="4732200"/>
            <a:ext cx="820080" cy="44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ten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atter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908440" y="3632040"/>
            <a:ext cx="7596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213000" y="392436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251160" y="448308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971800" y="474984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031840" y="422100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4264200" y="2073240"/>
          <a:ext cx="1643040" cy="468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64200" y="2073240"/>
                    <a:ext cx="1643040" cy="46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9" name=""/>
          <p:cNvSpPr/>
          <p:nvPr/>
        </p:nvSpPr>
        <p:spPr>
          <a:xfrm>
            <a:off x="4039200" y="1523880"/>
            <a:ext cx="2078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ess Point (Radio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tenna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092560" y="5029200"/>
            <a:ext cx="3276720" cy="131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tenna-to-antenn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olation takes into account all gains and losses in the signal between two radi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7007400" y="3825720"/>
          <a:ext cx="1643040" cy="509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007400" y="3825720"/>
                    <a:ext cx="1643040" cy="50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3" name=""/>
          <p:cNvSpPr/>
          <p:nvPr/>
        </p:nvSpPr>
        <p:spPr>
          <a:xfrm>
            <a:off x="6782400" y="4025880"/>
            <a:ext cx="2078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ess Point (Radio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tenna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622480" y="2852640"/>
            <a:ext cx="1995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tenna-to-Anten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o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H="1" flipV="1">
            <a:off x="5257440" y="2362320"/>
            <a:ext cx="762120" cy="4572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010280" y="3403440"/>
            <a:ext cx="673200" cy="38916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289320" y="421632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217440" y="609480"/>
            <a:ext cx="8709120" cy="596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New%20Logo" descr=""/>
          <p:cNvPicPr/>
          <p:nvPr/>
        </p:nvPicPr>
        <p:blipFill>
          <a:blip r:embed="rId1"/>
          <a:stretch/>
        </p:blipFill>
        <p:spPr>
          <a:xfrm>
            <a:off x="243000" y="25560"/>
            <a:ext cx="1066680" cy="53784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781200" y="6607080"/>
            <a:ext cx="7448040" cy="2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851 Burlway Road, Burlingame, CA 94010; Phone: (650) 348-1190; Fax: (650) 348-1261; Email: info@swedcom.co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236400" y="130320"/>
            <a:ext cx="5782320" cy="4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DIRECTIONAL ANTENNA SELECTION AND DEPLOY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im Bryant (jbryant@swedcom.com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523880" y="3962520"/>
            <a:ext cx="6292800" cy="1584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667640" y="3863880"/>
            <a:ext cx="0" cy="2286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205400" y="4287960"/>
            <a:ext cx="933480" cy="7333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Transm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(30 dB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626840" y="2895480"/>
            <a:ext cx="1040400" cy="7333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Recei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Threshol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(-85 dB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49560" y="364824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075040" y="914400"/>
            <a:ext cx="499248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SOLATION AT THE BASE ST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028880" y="4309920"/>
            <a:ext cx="1231560" cy="520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Noise Flo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(-90 dB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80880" y="1660680"/>
            <a:ext cx="8382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ideal antenna-to-antenna isolation level should produce a noise level that is less than the manufacturer’s stated radio receive sensitivit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694240" y="5661000"/>
            <a:ext cx="37648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 dBm - (-90 dBm) =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20 dB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63560" y="3860640"/>
            <a:ext cx="0" cy="2286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3860640"/>
            <a:ext cx="0" cy="2286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663560" y="414036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670880" y="414036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217440" y="609480"/>
            <a:ext cx="8709120" cy="596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" name="New%20Logo" descr=""/>
          <p:cNvPicPr/>
          <p:nvPr/>
        </p:nvPicPr>
        <p:blipFill>
          <a:blip r:embed="rId1"/>
          <a:stretch/>
        </p:blipFill>
        <p:spPr>
          <a:xfrm>
            <a:off x="243000" y="25560"/>
            <a:ext cx="1066680" cy="53784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781200" y="6607080"/>
            <a:ext cx="7448040" cy="2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851 Burlway Road, Burlingame, CA 94010; Phone: (650) 348-1190; Fax: (650) 348-1261; Email: info@swedcom.co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07960" y="1577880"/>
            <a:ext cx="812952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the worst-case antenna-to-antenna isolation at your base station is 100 dBm, then your actual (or highest) noise floor can be calculat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236400" y="130320"/>
            <a:ext cx="5782320" cy="4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3560" bIns="4356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DIRECTIONAL ANTENNA SELECTION AND DEPLOY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im Bryant (jbryant@swedcom.com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219320" y="3770280"/>
            <a:ext cx="674352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371600" y="3656160"/>
            <a:ext cx="0" cy="2286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813800" y="3656160"/>
            <a:ext cx="0" cy="2286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351560" y="4118040"/>
            <a:ext cx="933480" cy="7333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Transm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(30 dB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228320" y="2687760"/>
            <a:ext cx="1040400" cy="7333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Recei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Threshol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(-85 dB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752480" y="3656160"/>
            <a:ext cx="0" cy="2286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027160" y="4114800"/>
            <a:ext cx="1986120" cy="520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Highest Noise Flo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(-70 dB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022560" y="3656160"/>
            <a:ext cx="0" cy="2286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884880" y="4113360"/>
            <a:ext cx="973080" cy="7333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Noi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Flo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(-90 dB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751040" y="344016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371600" y="3960720"/>
            <a:ext cx="0" cy="152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7810560" y="3960720"/>
            <a:ext cx="0" cy="152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022560" y="3960720"/>
            <a:ext cx="0" cy="152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75040" y="914400"/>
            <a:ext cx="499248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6920"/>
                <a:tab algn="l" pos="1654200"/>
                <a:tab algn="l" pos="2481120"/>
                <a:tab algn="l" pos="3308400"/>
                <a:tab algn="l" pos="4135320"/>
                <a:tab algn="l" pos="4962600"/>
                <a:tab algn="l" pos="5789520"/>
                <a:tab algn="l" pos="6616800"/>
                <a:tab algn="l" pos="7443720"/>
                <a:tab algn="l" pos="8271000"/>
                <a:tab algn="l" pos="9097920"/>
                <a:tab algn="l" pos="9925200"/>
                <a:tab algn="l" pos="107521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SOLATION AT THE BASE ST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685960" y="5460840"/>
            <a:ext cx="37652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 dBm - (100 dBm) =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70 dB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17T17:25:28Z</dcterms:created>
  <dc:creator>Jim Bryant</dc:creator>
  <dc:description/>
  <dc:language>en-US</dc:language>
  <cp:lastModifiedBy>Karen Crain</cp:lastModifiedBy>
  <cp:lastPrinted>2002-02-08T15:36:29Z</cp:lastPrinted>
  <dcterms:modified xsi:type="dcterms:W3CDTF">2002-02-08T19:07:58Z</dcterms:modified>
  <cp:revision>243</cp:revision>
  <dc:subject/>
  <dc:title>No Slide Title</dc:title>
</cp:coreProperties>
</file>