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7860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1520" y="4950360"/>
            <a:ext cx="7860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1520" y="495036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9560" y="495036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99760" y="467208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7640" y="467208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1520" y="495036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99760" y="495036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7640" y="495036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1520" y="4672080"/>
            <a:ext cx="7860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78609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7120" y="1654200"/>
            <a:ext cx="7772400" cy="65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520" y="495036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1520" y="4672080"/>
            <a:ext cx="78609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560" y="495036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1520" y="4950360"/>
            <a:ext cx="7860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7860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1520" y="4950360"/>
            <a:ext cx="7860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1520" y="495036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560" y="495036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99760" y="467208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7640" y="467208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1520" y="495036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99760" y="495036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57640" y="4950360"/>
            <a:ext cx="25311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786096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27120" y="1654200"/>
            <a:ext cx="7772400" cy="65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1520" y="495036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5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9560" y="495036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152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560" y="4672080"/>
            <a:ext cx="383580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1520" y="4950360"/>
            <a:ext cx="7860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444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492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9120" indent="-4003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8240" indent="-337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98080" indent="-337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98080" indent="-337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98080" indent="-337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972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28720" indent="4932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28720" indent="4932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28720" indent="4932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666720" y="1886040"/>
            <a:ext cx="1333440" cy="2543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-514440" y="2038320"/>
            <a:ext cx="1333440" cy="2543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-361800" y="2190600"/>
            <a:ext cx="1333440" cy="2543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2343240"/>
            <a:ext cx="1333440" cy="2543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1 3.33333E-006 E">
                                      <p:cBhvr>
                                        <p:cTn id="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8333 -0.02222 L -0.01667 -0.02222 E">
                                      <p:cBhvr>
                                        <p:cTn id="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22917 L 0.96667 0.22917 E">
                                      <p:cBhvr>
                                        <p:cTn id="1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Network Security Technology Map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Network Security Technology Map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394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Internet Security Aspect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etration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ificate Authority / P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nera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d Securit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Penetration Testing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51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Content Monitoring / Filt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usion Detection – Host Ba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usion Detection – Network Ba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Gap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Authent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Appli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Services: Penetration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Certificate Authority / PKI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ificate Autho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 &amp; Session Encry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PN &amp; Cryptographic Commun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e Web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Sign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Application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Vulnerability Testing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nerability Scanners – Host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Security Awareness, Response &amp; Threat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nerability Scanners – Network B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Managed Security Service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prise Security Policy Implem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d Security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prise Security Adminis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Services: Policy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ed Operating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 D.D.O.D To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ome Tip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38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ng Networks Systematically — the Security Knowledge in Practice - SKiP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Advice Pertaining to Intrusion De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Steps in Compromis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uder Detection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Intruder Detection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s for Recovering from a UNIX or NT System Com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7120" y="198252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KiP Method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KiP Method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systems software from a vendor and customize it according to an organization’s nee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en and secure the system against known vulnerabil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 the system so that anomalies may be noticed and analyzed for potential probl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 those anomalies and any other system changes that could indicate evidence of an intru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d to intrusions when the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 practices and procedures after updating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 the SKiP process as long as the organization needs to protect the system and its information ass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7120" y="1628280"/>
            <a:ext cx="7772400" cy="14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29"/>
                </a:solidFill>
                <a:latin typeface="Arial"/>
              </a:rPr>
              <a:t>Protecting Your Website / Network</a:t>
            </a:r>
            <a:endParaRPr b="0" lang="en-US" sz="50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1520" y="4397760"/>
            <a:ext cx="78609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no W. Pur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no@indo.net.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KiP Method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36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izing Vendor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services that are unneeded and insecure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 access to vulnerable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off software “features” that introduce vulner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igate vulnerabilities that intruders can use to break into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KiP Method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en and Secure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e their system to meet organizational security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ning only those services and features needed to address specific business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ng a system against known attacks eliminates vulnerabilities and other weaknesses commonly used by intru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actices performed during this step may change over time to address new attacks and vulner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KiP Method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administrators characterize their system in the Prepare step. An administrator knows what to expect in terms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files and directories and the operating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processes, when they run, by whom, and what resources they cons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traffic consumed and p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inventory on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KiP Method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ors concentrate on detecting signs of anomalous or unexpected behavior since it may indicate possible intrusions and system comprom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ors also watch for early warning signs of potential intruder actions such as scanning and network mapping attem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KiP Method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the damage caused by the intrusion and respond by adding new technology or procedures to combat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an intruder’s actions in order to discover all access paths and entry points before acting to restrict intruder a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future intrude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 the system to a known, operational state while continuing to monitor and analy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KiP Method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42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a post-mortem review meeting to discuss lessons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policies and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new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data about the resources required to deal with the intrusion and document the damage it ca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General Advice Pertaining to Intrusion Detection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General Advice Pertaining to Intrusion Detection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388360" cy="38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active auditing and monitoring are essential steps in intrusion det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neffective to audit altered data or compromised systems -- their logs are unrel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a baseline for what you consider normal activity for your environment so you can determine unusual events and respond appropri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Minimal Steps in Compromised System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Minimal Steps in Compromised System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388360" cy="39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every step that you perform in det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a sector-by-sector backup of the hard disk dr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r organization intends to take legal action in connection with intrusions, then consult with your legal department before performing any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7120" y="131760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Information Security is</a:t>
            </a:r>
            <a:br>
              <a:rPr sz="4800"/>
            </a:b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about technology, policy,</a:t>
            </a:r>
            <a:br>
              <a:rPr sz="4800"/>
            </a:b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people and common sense”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7120" y="198252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Intruder Detection Checklis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Intruder Detection Checklis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51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log fi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for setuid and setgid Fi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system bina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packet sniff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files run by 'cron' and 'at'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unauthorized ser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/etc/passwd f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system and network configu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everywhere for unusual or hidden fi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all machines on the local net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Windows Intruder Detection Checklis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Windows Intruder Detection Checklis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38836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for Signs For System Compromi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k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Log Fi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Odd User Accounts and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All Groups for Unexpected User Membershi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for Unauthorized User Righ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Unauthorized Applications Starting Automatic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Your System Binaries for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Windows Intruder Detection Checklis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38836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for Signs For System Compromi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Your Network Configurations for Unauthorized Ent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Unauthorized Sha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Any Jobs Scheduled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Unauthorized Proces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Throughout the System for Unusual or Hidden Fi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Altered Permissions on Files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Windows Intruder Detection Checklis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388360" cy="31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Signs For System Compromis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for Changes in User or Computer Polic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the System has not been Joined to a Different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t for Intrusion Det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Windows Intruder Detection Checklis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388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Running Intrusion Detec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ware/shareware Intrusion Detection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Intrusion Detection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Windows Intruder Detection Checklist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38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CERT Docu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s for Recovering from a Windows NT Compromi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NT Configuration Guidel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ST Checkli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7120" y="16542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Recovering from Compromis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Recovering from Compromis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you get 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the intr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the relevant CSIRT for Incident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ver from the intr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the security of your system and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nect to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your security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Outlin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T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Your Friends &amp;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Recovering from Compromis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40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Before you get 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 your security poli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do not have a security poli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 with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 with your legal couns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law enforcement agenc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fy others within your orga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all of the steps you take in recove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Recovering from Compromis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31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Reg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nnect compromised system(s) from the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 an image of the compromised system(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Recovering from Compromis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52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nalyze the intr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for modifications made to system software and configuration fi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for modifications to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for tools and data left behind by the intru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log fi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for signs of a network sniff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other systems on your net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systems involved or affected at remote si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Recovering from Compromis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31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Contact the relevant CSIRT and other sites inv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t Repor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the CERT Coordination Cen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contact information for other sites involv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Recovering from Compromis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39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Recover from the intr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l a clean version of your operating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ble unnecessary ser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l all vendor security patch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 CERT advisories, external security bulletins and vendor-initiated bullet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tion use of data from back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passwo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Recovering from Compromis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37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Improve the security of your system and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ecurity using the UNIX or NT configuration guidelines docu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 security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ble maximal logg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gure firewalls to defend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Recovering from Compromis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43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. Reconnect to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 Update your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lessons learned from being compromis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ost of this incid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rporate necessary changes (if any) in your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1982880"/>
            <a:ext cx="7010280" cy="533160"/>
          </a:xfrm>
          <a:prstGeom prst="rect">
            <a:avLst/>
          </a:prstGeom>
          <a:solidFill>
            <a:srgbClr val="ffcc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Outlin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T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Your Friends &amp;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Security Policie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39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sans.org/resources/policie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sans.org/resources/policies/Policy_Primer.p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Communication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 Security Poli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Virus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net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1395360"/>
            <a:ext cx="7010280" cy="533520"/>
          </a:xfrm>
          <a:prstGeom prst="rect">
            <a:avLst/>
          </a:prstGeom>
          <a:solidFill>
            <a:srgbClr val="ffcc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Outlin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T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Your Friends &amp;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A Security Policy Framework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43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ies define appropriate behavi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ies set the stage in terms of what tools and procedures are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ies communicate a consen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ies provide a foundation for HR action in response to inappropriate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ies may help prosecute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: Michele D. Guel, The SANS Policy Pri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Policy Outlin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8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901"/>
              </a:spcBef>
              <a:buSzPct val="15769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5769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5769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5769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492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wnership Responsi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492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enarios &amp; Business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492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hibited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492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492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nning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6640" indent="-4492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5769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forc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5769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90720" y="2577960"/>
            <a:ext cx="7010280" cy="533520"/>
          </a:xfrm>
          <a:prstGeom prst="rect">
            <a:avLst/>
          </a:prstGeom>
          <a:solidFill>
            <a:srgbClr val="ffcc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Outline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T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Your Friends &amp;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Type of Communitie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51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olicy &amp; Poli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matika@yahoogroup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Network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owli@yahoogroup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osiasi-warnet@yahoogroup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er (Formal &amp; White Coll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phindo@yahoogroup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er &amp;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sakom-perjuangan@yahoogroup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bie-hacker@yahoogroup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IT Policy &amp; Politic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1414440"/>
          <a:ext cx="8388360" cy="1898640"/>
        </p:xfrm>
        <a:graphic>
          <a:graphicData uri="http://schemas.openxmlformats.org/drawingml/2006/table">
            <a:tbl>
              <a:tblPr/>
              <a:tblGrid>
                <a:gridCol w="4194360"/>
                <a:gridCol w="419400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tik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matik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l-anggo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IT Network Administrator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0880" y="1414440"/>
          <a:ext cx="8388360" cy="2373480"/>
        </p:xfrm>
        <a:graphic>
          <a:graphicData uri="http://schemas.openxmlformats.org/drawingml/2006/table">
            <a:tbl>
              <a:tblPr/>
              <a:tblGrid>
                <a:gridCol w="4815000"/>
                <a:gridCol w="3573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iasi-warn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mukomputer-network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-cen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ow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Programmer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0880" y="1414440"/>
          <a:ext cx="8388360" cy="2847960"/>
        </p:xfrm>
        <a:graphic>
          <a:graphicData uri="http://schemas.openxmlformats.org/drawingml/2006/table">
            <a:tbl>
              <a:tblPr/>
              <a:tblGrid>
                <a:gridCol w="5281560"/>
                <a:gridCol w="310680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mukomputer-programm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oprog-v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phi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g-indones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harp-in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Hacker &amp; Viru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1414440"/>
          <a:ext cx="8388360" cy="3797280"/>
        </p:xfrm>
        <a:graphic>
          <a:graphicData uri="http://schemas.openxmlformats.org/drawingml/2006/table">
            <a:tbl>
              <a:tblPr/>
              <a:tblGrid>
                <a:gridCol w="5126040"/>
                <a:gridCol w="32623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sakom-perjuang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bie-hack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alahneot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ks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gyaf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oc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dungh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IT Politics &amp; Policy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CERT Technical Tip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45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cert.org/tech_tip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ng System o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ding to Inc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l 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ng Network Systema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59486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61390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Programmer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harp-i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g-indon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hi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oprog-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mukomputer-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7120" y="198252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Delphindo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27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8839080" cy="37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62120" y="76320"/>
            <a:ext cx="7238880" cy="670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1689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Hacker Communitie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ungh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oc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gya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akom-perjua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Where It All Started …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ing a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7120" y="198252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bandunghack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72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204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7120" y="198252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Jasakom-perjuangan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88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1481040"/>
            <a:ext cx="9144000" cy="23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Choosing a Technology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14080"/>
            <a:ext cx="8388360" cy="52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House vs. Outside Tech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have the HR to do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ly-Available vs. Commercia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have the HR to do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5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Your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 of source code vs. bina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 of technical expertise (internal and extern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and/or customer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requirements and usa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39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software, hardware, and technical suppor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26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09480" y="1565280"/>
            <a:ext cx="8001000" cy="31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90720" y="90360"/>
            <a:ext cx="6933960" cy="662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883120" cy="662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Excellence Reference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ans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ert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Arial"/>
              </a:rPr>
              <a:t>Extreme References</a:t>
            </a:r>
            <a:endParaRPr b="0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414440"/>
            <a:ext cx="838836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remote-exploit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packetstormsecurity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06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303200" y="2598840"/>
            <a:ext cx="6272280" cy="1353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29"/>
                </a:solidFill>
                <a:latin typeface="Arial"/>
              </a:rPr>
              <a:t>Choosing a Technology</a:t>
            </a:r>
            <a:endParaRPr b="0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8836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ardless of the choice you mak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ould first carefully review and understand the needs of your organ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customer base in terms of resources, cost, and security ris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well as any site-specific constrain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available products and services to your need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183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n determine what product best matches your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1:35:49Z</dcterms:created>
  <dc:creator>Onno</dc:creator>
  <dc:description>©2006 Microsoft Corporation. All rights reserved.  The information contained in this document represents the current view of Microsoft Corporation on the issues discussed as of the date of publication.</dc:description>
  <dc:language>en-US</dc:language>
  <cp:lastModifiedBy>subhanm</cp:lastModifiedBy>
  <dcterms:modified xsi:type="dcterms:W3CDTF">2006-04-03T08:09:58Z</dcterms:modified>
  <cp:revision>80</cp:revision>
  <dc:subject/>
  <dc:title>Protecting Your Website / Network</dc:title>
</cp:coreProperties>
</file>