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2.png" ContentType="image/png"/>
  <Override PartName="/ppt/media/image35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8.wmf" ContentType="image/x-wmf"/>
  <Override PartName="/ppt/media/image33.jpeg" ContentType="image/jpeg"/>
  <Override PartName="/ppt/media/image5.wmf" ContentType="image/x-wmf"/>
  <Override PartName="/ppt/media/image38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94BE-0C14-45B6-BC7A-F1611460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261-F37F-4970-9499-A6C1BBC0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49E-CB64-49DC-A239-81AB34E4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FCE-9789-4030-8CC5-38C8E167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7ACA-C2BA-4F02-8979-F3782D17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9C3D-28DD-4665-87D0-FBAABCD0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1BA9-27DF-4406-AC77-B9A612E8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664A-2D50-4636-A62F-26672435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10D6-FC07-49EB-91E6-4DC824B2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4978-22D2-4957-A663-FDF8331D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4F65-AE8B-4C2E-8A15-A778AC76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591-F76F-4C87-BF10-EA3739F6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FD67-472E-4B23-8879-D83C513F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2902-1108-485F-BE8D-41EA5F28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50AA-D616-486D-AF6B-DBF2FB87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0725-ACF5-4E03-B5E9-162F0D5F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7823-CCDD-43F1-9442-F24E397B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8EF-550F-42AF-A2BD-8FD867FE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D15-FF45-4A78-8300-BE1D047D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816-8845-4595-BB1C-E5EC50AD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326-1D13-4590-AD3E-9D400B39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28C-9959-4556-94A2-8BF67209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291-0BC6-41DB-9F0C-2E125AC2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8110-0722-4B6C-A1AB-CFBDE632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74F3-20D7-4E44-8EF0-30E1157B1C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A676-8521-475B-9DE4-94EA6CA2A7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dang Aplikasi E-Co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523880"/>
          <a:ext cx="8686800" cy="53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68680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luang &amp; Kendala E-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1828800"/>
          <a:ext cx="914400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Commerce Teori-nya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fitas di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tualisasi Pengembangan Wilay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Custom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s. Business - Busin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2057400"/>
          <a:ext cx="9144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 (EDI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 Whom EDI Can Be Used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jor cost to move to E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atabase dibalik Web 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ntangan Selanjutnya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borativ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ion L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nic Data Interch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 Teori-nya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EDI Mess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c00"/>
                    </a:solidFill>
                    <a:miter/>
                  </a:ln>
                  <a:effectLst>
                    <a:outerShdw dist="107932" dir="2700000" blurRad="0" rotWithShape="0">
                      <a:srgbClr val="808000"/>
                    </a:outerShdw>
                  </a:effectLst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al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suk ke Internet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rvey Potens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&amp; Profile Us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19360" y="26665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ffic Web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vey User Pro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079640" y="1994040"/>
          <a:ext cx="3014640" cy="37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994040"/>
                    <a:ext cx="3014640" cy="37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Traffic Web Indone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0-80% traffic datangnya dari / ke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informasi Web yang agak banyak datangnya dar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com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edu di Amerika Seri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.sg di Singap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ar traffic Web  harian mencapai 80-100Mby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Perdag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ga Bersa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tu Tingg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tepatan Waktu sampai ke Pas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Profile User Hasil Sebuah Stud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rakteritik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ference and Per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Sources &amp; Distribution Chan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du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42080" y="2454120"/>
          <a:ext cx="3089160" cy="43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080" y="2454120"/>
                    <a:ext cx="3089160" cy="43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mum Well Educated 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kar menemukan User Internet yang hanya berpendidikan SD :-)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 dominasi oleh P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umnya single atau tidak punya ana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umnya Antara 25-35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ih Relatif Mu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co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Amerika Serik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65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Erop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ata-rata US$ 42.000 per tah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97320" y="4648320"/>
          <a:ext cx="361656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7320" y="4648320"/>
                    <a:ext cx="3616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49400" y="4560840"/>
          <a:ext cx="517824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400" y="4560840"/>
                    <a:ext cx="51782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pe Perusahaan Yang Akan di Untungk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lam Waktu Dek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erusahaan Kec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&lt;100 Pegawa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6512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reativ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ustomizabil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nveni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760" y="2097000"/>
          <a:ext cx="3706560" cy="33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2097000"/>
                    <a:ext cx="3706560" cy="33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otal Customer Satisf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ategi Um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a competitive analysis and remember content is 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name of the game is the dom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't waste your time, do a timel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pond, respond, resp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 on the circu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Offensive di Lapang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ada Indonesia Technolog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disional vs Elektroni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lit promosi &amp; akses pas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timpangan persaingan dag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onomi biaya tinggi &amp; birokra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edu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ar kurang kompeti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kses pasar mud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ilaian indepen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siasi &amp; penawaran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mudahan permintaan produk bar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ur informasi transpar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yanan interakt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nada Indonesia TechNet (CITN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ower SMEs (Small Medium Enterpri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ucation, Research, NGO, Gov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adian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-ctn@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tnjkt@ibm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TN - CTN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486080"/>
          <a:ext cx="70866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86080"/>
                    <a:ext cx="70866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@isnet.itb.ac.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lman, RCTI, Bank, Dept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ng-cilik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90720" y="1165320"/>
          <a:ext cx="8153280" cy="61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65320"/>
                    <a:ext cx="815328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AN Agriculture W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riculture@apan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Knowledge on Agri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porting Tech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und Card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00-9600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+ Sound Card +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ome.pages.de/~flexnet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TT FlexNet via Ser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7" name="ptt_ser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5345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ycom Packet Rad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33520" y="1752480"/>
          <a:ext cx="861048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61048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-3240" y="-3240"/>
          <a:ext cx="9074160" cy="67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881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ADI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ADI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 Shared Web Ac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2514600"/>
          <a:ext cx="883908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8839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3.6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 Windows / Linux / FreeBSD +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arch Internet: (Keywor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i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tual Ho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04920" y="1600200"/>
          <a:ext cx="883908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83908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CDM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10 km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in Router + Ethernet conn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hydra.carleton.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LAN (CDM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1774800"/>
          <a:ext cx="914400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4800"/>
                    <a:ext cx="91440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781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</p:pic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ational Tr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2120" y="1504800"/>
          <a:ext cx="8076960" cy="5353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04800"/>
                    <a:ext cx="8076960" cy="535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mateur Packet Satell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FOTO-13" descr="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FOTO-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Telepho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0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 Call Wai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2" name="ipfax_white3" descr=""/>
          <p:cNvPicPr/>
          <p:nvPr/>
        </p:nvPicPr>
        <p:blipFill>
          <a:blip r:embed="rId1"/>
          <a:stretch/>
        </p:blipFill>
        <p:spPr>
          <a:xfrm>
            <a:off x="380880" y="1625760"/>
            <a:ext cx="84582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4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-Commerce Glob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1674720"/>
          <a:ext cx="73152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4720"/>
                    <a:ext cx="7315200" cy="5183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7e988b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deo Confer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6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ptualisasi 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1758960" y="2063880"/>
            <a:ext cx="6921360" cy="3568680"/>
          </a:xfrm>
          <a:custGeom>
            <a:avLst/>
            <a:gdLst>
              <a:gd name="textAreaLeft" fmla="*/ 256320 w 6921360"/>
              <a:gd name="textAreaRight" fmla="*/ 6665040 w 6921360"/>
              <a:gd name="textAreaTop" fmla="*/ 132120 h 3568680"/>
              <a:gd name="textAreaBottom" fmla="*/ 2850120 h 3568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4425840" y="387360"/>
            <a:ext cx="4635720" cy="364500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135000 h 3645000"/>
              <a:gd name="textAreaBottom" fmla="*/ 2910960 h 3645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835280" y="6480"/>
            <a:ext cx="6769080" cy="25779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5400 h 2577960"/>
              <a:gd name="textAreaBottom" fmla="*/ 2058840 h 25779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892680" y="6480"/>
            <a:ext cx="5168880" cy="265428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98280 h 2654280"/>
              <a:gd name="textAreaBottom" fmla="*/ 2119680 h 26542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 flipH="1">
            <a:off x="81720" y="6480"/>
            <a:ext cx="6769080" cy="242568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se Inovasi E-Commer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ation: penghematan bia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sion:peningkatan performa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: nilai tambah ba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2133720"/>
          <a:ext cx="7084800" cy="52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0848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ngembangan Wilay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e Patte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 Net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Empower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 Cre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Technology Supp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09:48:31Z</dcterms:created>
  <dc:creator>Onno W. Purbo</dc:creator>
  <dc:description/>
  <dc:language>en-US</dc:language>
  <cp:lastModifiedBy>Onno W. Purbo</cp:lastModifiedBy>
  <dcterms:modified xsi:type="dcterms:W3CDTF">1999-06-29T02:23:48Z</dcterms:modified>
  <cp:revision>24</cp:revision>
  <dc:subject/>
  <dc:title>No Slide Title</dc:title>
</cp:coreProperties>
</file>